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08E8-5A99-4A96-9101-689F56A4F6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2E67-E8C7-468C-875F-80770E6F00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5F45-CB7F-4EB7-8E18-AC003F392A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E2E4-B4F2-406D-BBC0-B9AAC721BD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075A-7D38-4FBE-A207-7266206785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1D88-467C-4EA2-AB15-622A061BB6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315E-C792-4DBE-A9EA-85DC03D097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59B6-71ED-44D2-A365-E3EC2CC052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C75-264A-4F15-929A-905F33FA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2B9-44BB-4787-AE89-61F630B0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7F4-7695-4B1E-8688-727923A9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149-56BD-413C-A40B-8DEBEEC0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FD2-B59E-4066-9951-9835145C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945-25EC-4643-AF69-CF895DB6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528-14CC-42EB-A504-624F9F18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9D0-97C2-40FD-9207-6078E745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01F-097C-4689-82DE-3B0F8F1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38B-6D95-4F58-9BB1-30153E28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DAE-6885-49EF-A90C-DBDCF545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B9B-93E8-4851-BB09-5CA4064B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CB00-D265-46CC-97E1-BDF9FE3CC2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696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ровень адаптации учеников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1 классов ХСШ №108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результатам проективного теста межличностных отношений , социальных эмоций и ценностных ориентаций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. А. Ореховой «Доми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124000" y="260280"/>
            <a:ext cx="65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тому, как быстро первоклассники проходят социально-психологическую адаптацию, их можно условно поделить на 3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ация в течение 1,5-2 месяцев обучения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е дети быстро устанавливают контакт с одноклассниками и учителями, легко осваиваются в школе, заводят новых друзей. Они без особых усилий выполняют требования учителя, всегда в хорошем настроении, добросовестно выполняют задания. У таких детей в первое время все же могут возникать сложности в общении с детьми или учителем, но обычно к концу второго месяца учебы эти трудности преодолеваются. Дети быстро принимают новый статус ученика, новые требования и режим д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47280" y="1341000"/>
            <a:ext cx="7139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тям требуется 3-4 месяц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, чтобы привыкнуть и принять требования школы. Эти школьники могут не реагировать на замечания педагога, играть на уроках, могут обижаться, в усвоении учебной программы они испытывают трудности. Лишь к концу 2-ой четверти дети осваиваются и начинают вести себя адекватно в соответствии с требованиями школы и уч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9280" y="1557000"/>
            <a:ext cx="7067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ти испытывают значительные трудности в социально-психологической адапт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У таких школьников может отмечаться крайне негативное поведение, нежелание слушаться, выполнять требования учителя. Они могут вступать в спор с педагогами, в драки со сверстниками. Усвоение учебного материала происходит с большим тру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260280"/>
            <a:ext cx="7210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ологическая адап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вом классе на плечи ребенка сваливается непривычная для него нагрузка. Какую бы работу ни выполнял школьник: умственную по усвоению новых знаний, статическую нагрузку, сидя в почти неподвижном положении за партой, психологическую от общения в большом коллективе, - на все это детский организм реагирует напряженной работой. И чем больше нагрузка, тем больше ресурсов тратится. А возможности детского организма далеко не безграничны. Поэтому взрослым нужно следить за тем, чтобы ребенок не испытывал длительного напряжения, которое приводит к утомлению и переутомлению, что может негативно отразиться на детском здоровье. Физиологическая адаптация первоклассников занимает 1,5-2 меся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Объект 2" descr=""/>
          <p:cNvPicPr/>
          <p:nvPr/>
        </p:nvPicPr>
        <p:blipFill>
          <a:blip r:embed="rId1"/>
          <a:stretch/>
        </p:blipFill>
        <p:spPr>
          <a:xfrm>
            <a:off x="417600" y="209520"/>
            <a:ext cx="8319960" cy="5934240"/>
          </a:xfrm>
          <a:prstGeom prst="rect">
            <a:avLst/>
          </a:prstGeom>
          <a:ln w="0">
            <a:noFill/>
          </a:ln>
        </p:spPr>
      </p:pic>
      <p:pic>
        <p:nvPicPr>
          <p:cNvPr id="67" name="Диаграмма 3" descr=""/>
          <p:cNvPicPr/>
          <p:nvPr/>
        </p:nvPicPr>
        <p:blipFill>
          <a:blip r:embed="rId2"/>
          <a:stretch/>
        </p:blipFill>
        <p:spPr>
          <a:xfrm>
            <a:off x="704880" y="353880"/>
            <a:ext cx="823896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406440" y="209520"/>
            <a:ext cx="83311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Объект 2" descr=""/>
          <p:cNvPicPr/>
          <p:nvPr/>
        </p:nvPicPr>
        <p:blipFill>
          <a:blip r:embed="rId1"/>
          <a:stretch/>
        </p:blipFill>
        <p:spPr>
          <a:xfrm>
            <a:off x="406440" y="209520"/>
            <a:ext cx="83311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мотивации младши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ьников к обуче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Объект 2" descr=""/>
          <p:cNvPicPr/>
          <p:nvPr/>
        </p:nvPicPr>
        <p:blipFill>
          <a:blip r:embed="rId1"/>
          <a:stretch/>
        </p:blipFill>
        <p:spPr>
          <a:xfrm>
            <a:off x="1593720" y="1001880"/>
            <a:ext cx="7601040" cy="5175000"/>
          </a:xfrm>
          <a:prstGeom prst="rect">
            <a:avLst/>
          </a:prstGeom>
          <a:ln w="0">
            <a:noFill/>
          </a:ln>
        </p:spPr>
      </p:pic>
      <p:pic>
        <p:nvPicPr>
          <p:cNvPr id="72" name="Диаграмма 3" descr=""/>
          <p:cNvPicPr/>
          <p:nvPr/>
        </p:nvPicPr>
        <p:blipFill>
          <a:blip r:embed="rId2"/>
          <a:stretch/>
        </p:blipFill>
        <p:spPr>
          <a:xfrm>
            <a:off x="1784520" y="1290600"/>
            <a:ext cx="73022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ношение учеников 1-х классов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предмета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Диаграмма 4" descr=""/>
          <p:cNvPicPr/>
          <p:nvPr/>
        </p:nvPicPr>
        <p:blipFill>
          <a:blip r:embed="rId1"/>
          <a:stretch/>
        </p:blipFill>
        <p:spPr>
          <a:xfrm>
            <a:off x="1065240" y="1217520"/>
            <a:ext cx="7950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вень эмоционального настроения учеников 1-х классов, когда они находятся до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Объект 2" descr=""/>
          <p:cNvPicPr/>
          <p:nvPr/>
        </p:nvPicPr>
        <p:blipFill>
          <a:blip r:embed="rId1"/>
          <a:stretch/>
        </p:blipFill>
        <p:spPr>
          <a:xfrm>
            <a:off x="992160" y="1362240"/>
            <a:ext cx="8202600" cy="4814640"/>
          </a:xfrm>
          <a:prstGeom prst="rect">
            <a:avLst/>
          </a:prstGeom>
          <a:ln w="0">
            <a:noFill/>
          </a:ln>
        </p:spPr>
      </p:pic>
      <p:pic>
        <p:nvPicPr>
          <p:cNvPr id="77" name="Диаграмма 4" descr=""/>
          <p:cNvPicPr/>
          <p:nvPr/>
        </p:nvPicPr>
        <p:blipFill>
          <a:blip r:embed="rId2"/>
          <a:stretch/>
        </p:blipFill>
        <p:spPr>
          <a:xfrm>
            <a:off x="2000160" y="1074600"/>
            <a:ext cx="687096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2560" y="549000"/>
            <a:ext cx="7643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естественное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е человека, проявляющиеся в приспособлении (привыкании) к новым условиям жизни, новой деятельности, новым социальным контактам, новым социальным р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вень общего эмоционального настроение младших школьник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Объект 2" descr=""/>
          <p:cNvPicPr/>
          <p:nvPr/>
        </p:nvPicPr>
        <p:blipFill>
          <a:blip r:embed="rId1"/>
          <a:stretch/>
        </p:blipFill>
        <p:spPr>
          <a:xfrm>
            <a:off x="1295280" y="1217520"/>
            <a:ext cx="7899480" cy="5032440"/>
          </a:xfrm>
          <a:prstGeom prst="rect">
            <a:avLst/>
          </a:prstGeom>
          <a:ln w="0">
            <a:noFill/>
          </a:ln>
        </p:spPr>
      </p:pic>
      <p:pic>
        <p:nvPicPr>
          <p:cNvPr id="80" name="Диаграмма 3" descr=""/>
          <p:cNvPicPr/>
          <p:nvPr/>
        </p:nvPicPr>
        <p:blipFill>
          <a:blip r:embed="rId2"/>
          <a:stretch/>
        </p:blipFill>
        <p:spPr>
          <a:xfrm>
            <a:off x="2000160" y="1217520"/>
            <a:ext cx="67993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бъект 4" descr=""/>
          <p:cNvPicPr/>
          <p:nvPr/>
        </p:nvPicPr>
        <p:blipFill>
          <a:blip r:embed="rId1"/>
          <a:stretch/>
        </p:blipFill>
        <p:spPr>
          <a:xfrm>
            <a:off x="272880" y="209520"/>
            <a:ext cx="84646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Объект 5" descr=""/>
          <p:cNvPicPr/>
          <p:nvPr/>
        </p:nvPicPr>
        <p:blipFill>
          <a:blip r:embed="rId1"/>
          <a:stretch/>
        </p:blipFill>
        <p:spPr>
          <a:xfrm>
            <a:off x="344520" y="209520"/>
            <a:ext cx="859932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ровень адаптаци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1-м клас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Объект 4" descr=""/>
          <p:cNvPicPr/>
          <p:nvPr/>
        </p:nvPicPr>
        <p:blipFill>
          <a:blip r:embed="rId1"/>
          <a:stretch/>
        </p:blipFill>
        <p:spPr>
          <a:xfrm>
            <a:off x="2073240" y="1938240"/>
            <a:ext cx="70135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Объект 2" descr=""/>
          <p:cNvPicPr/>
          <p:nvPr/>
        </p:nvPicPr>
        <p:blipFill>
          <a:blip r:embed="rId1"/>
          <a:stretch/>
        </p:blipFill>
        <p:spPr>
          <a:xfrm>
            <a:off x="406440" y="209520"/>
            <a:ext cx="8331120" cy="5967360"/>
          </a:xfrm>
          <a:prstGeom prst="rect">
            <a:avLst/>
          </a:prstGeom>
          <a:ln w="0">
            <a:noFill/>
          </a:ln>
        </p:spPr>
      </p:pic>
      <p:pic>
        <p:nvPicPr>
          <p:cNvPr id="86" name="Диаграмма 3" descr=""/>
          <p:cNvPicPr/>
          <p:nvPr/>
        </p:nvPicPr>
        <p:blipFill>
          <a:blip r:embed="rId2"/>
          <a:stretch/>
        </p:blipFill>
        <p:spPr>
          <a:xfrm>
            <a:off x="488880" y="209520"/>
            <a:ext cx="85266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помочь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оклашк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Объект 2" descr=""/>
          <p:cNvPicPr/>
          <p:nvPr/>
        </p:nvPicPr>
        <p:blipFill>
          <a:blip r:embed="rId1"/>
          <a:stretch/>
        </p:blipFill>
        <p:spPr>
          <a:xfrm>
            <a:off x="863640" y="1506600"/>
            <a:ext cx="83311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268360" y="260280"/>
            <a:ext cx="612000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оказатели благоприятной адаптации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хранение физического, психического и социального здоровь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ление контактов с учащимися и учите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адекватн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ладение навыкам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556000" y="476280"/>
            <a:ext cx="626400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я школьной жизни первоклассник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е утренней гимнас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подвижных игр на пере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ческое проведение физмину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на деятельности на уро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разнообразных форм работы(групповая, парная, фронтальная, индивидуаль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нообразных типов уроков (урок-сказка, экскурсия, путешествие, игра, театрализац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ение режима проветривания классной комн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870280" y="765000"/>
            <a:ext cx="525600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) Привитие гигиенических норм 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) Релаксация (прослушивание спокойных музыкальных произведений, хоровое пение детских и фольклорных пес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) Рефлексия ( формирование самооценки ребенка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) Выстраивание позитивных взаимоотношений (похвала, ориентируем на успе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ка учителя и его доброжелательное отнош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56000" y="692280"/>
            <a:ext cx="54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становление контактов с учащимися и учите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рганизация игр на знакомство с одноклассниками и учите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ддерживание здоровых контактов в разнообразных формах  совместной деятельности (работа в парах и групп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рганизация дежурства в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здравление именин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Школьная дезадаптация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26920" y="1413000"/>
            <a:ext cx="60706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Школьная дезадаптация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- это нарушение равновесия гармоничных отношений между школьной средой и ребенком, которые в процессе обучения и воспитания        обнаруживают адаптационные трудности,                 нарушения, проявляющиеся на разных уровнях его развития: биологическом, физиологическом, социальном, психологическ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2513160" y="981000"/>
            <a:ext cx="56163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ование адекватн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омство с правилами школьной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а на личный опыт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уждение положительных примеров из литературных произведений и из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195640" y="404640"/>
            <a:ext cx="59054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владение навыкам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своение организационных навыков (внешняя и внутренняя готовность к уроку, порядок на столе, в портфеле, в тетради, контроль за наличием школьных принадлежност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мение слушать, действовать по инстру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мыслительных процессов: анализ, синтез, классифик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полнение логических зад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звитие психических процессов: памяти, внимания, вооб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школьной мотив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комендации психолога  классным руководителям по осуществлению благоприятной адаптации учащихся 1-х классов к учебному процессу: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52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. Учитывать индивидуально - психологические особенности учащихся учебно-воспитательного процес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 . На уроках проводить коллективные занятия, которые способствовали сближению учащихся и помогали застенчивым детям высказывать свою точку зрения, выражать себ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 . Классным руководителям пересмотреть распределение школьных обязанностей. Привлекать учеников, у которых есть трудности в общении со сверстниками, к коллективной деятельности, участия в различных школьных праздник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 . При работе с детьми акцентировать больше внимания на положительных качествах, что поможет сформировать положительную самооценк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 . Проводить уроки, которые помогают учащимся проявлять свои творческие способ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 . Помогать ученикам, с низкой мотивацией преодолевать трудности в обучен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 . Стараться не акцентировать внимание на статусе ученика в школьном коллектив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 . Проводить с детьми беседы, которые помогают детям справляться со стресс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 . Отказаться от уравнивания достижений или отдельных черт ребенка с достижениями и чертами других уче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Рекомендовать родителям проведение специальных упражнений дома и проведение профилактического лечения при наличии хронических заболеваний, особенно нервной и сердечно-сосудистой сист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Родителей, чьи дети имеют высокие показатели дезадаптации по результатам тестирования направить на консультацию к школьному психолог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Придерживаться режима дня, отдыха, здорового пит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3640" y="1197000"/>
            <a:ext cx="4824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4000" y="3645000"/>
            <a:ext cx="6778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сихолог            Б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84000" y="404640"/>
            <a:ext cx="6131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ричины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стояние здоровь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циально-бытовое состояние семь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Внутрисемейные отношения (недостатки домашнего тепл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Нарушение режима д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е (перегруз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2560" y="1557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ебенка процессом обуч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  ребенок легко справляется с программо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  степень самостоятельности ребенка при выполнении им учебных заданий, готовность прибегнуть к помощи взрослого лишь ПОСЛЕ               попыток выполнить задание самому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  удовлетворенность межличностными отношениями – с одноклассниками и учи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ризнаки успешной адаптации учащихся 1 класс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лый, утомлённый внешний вид ребё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желание ребёнка делиться своими впечатлениями о проведённом д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желания выполнять домашние зад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560" y="620640"/>
            <a:ext cx="7797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гативные характеристики в адрес школы, учителей, одноклассни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на те или иные события, связанные со школ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покойный сон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дности утреннего пробуждения, вял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оянные жалобы на плохое самочувств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ящий мониторинг </a:t>
            </a: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 1-м класс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1" descr=""/>
          <p:cNvPicPr/>
          <p:nvPr/>
        </p:nvPicPr>
        <p:blipFill>
          <a:blip r:embed="rId1"/>
          <a:stretch/>
        </p:blipFill>
        <p:spPr>
          <a:xfrm>
            <a:off x="-27000" y="1217520"/>
            <a:ext cx="4530600" cy="550224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11" descr=""/>
          <p:cNvPicPr/>
          <p:nvPr/>
        </p:nvPicPr>
        <p:blipFill>
          <a:blip r:embed="rId2"/>
          <a:stretch/>
        </p:blipFill>
        <p:spPr>
          <a:xfrm>
            <a:off x="4376880" y="1217520"/>
            <a:ext cx="48178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050920" y="260280"/>
            <a:ext cx="6647040" cy="57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адаптации первокласс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аптация ребенка к школе — процесс многоплановый. Его составляющими являю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о-психолог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изиологическа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аптац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составляющие связаны между собой. Успешное обучение, хорошее самочувствие, умение взаимодействовать с одноклассниками и учителями, выполнять школьные требования, - все это возможно при формировании физиологической и социально-психологической адапт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Nataly</cp:lastModifiedBy>
  <dcterms:modified xsi:type="dcterms:W3CDTF">2013-10-18T08:09:09Z</dcterms:modified>
  <cp:revision>37</cp:revision>
  <dc:subject/>
  <dc:title>Слайд 1</dc:title>
</cp:coreProperties>
</file>