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2A06-F22A-4276-98CA-A53F4BBA80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517-A660-4FD4-A8AE-37E8074DC3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DA7D-480F-44CF-8560-A47FA3A14E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C750-245D-45C0-9468-A89931B75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B55-176A-4B9B-8296-527426D9B0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9D0F-694D-47DC-8479-9B5B1DD931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8C51-FA10-4304-B70B-DA88EE6A7D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0D7D-852A-4BEB-82A5-2DFB3CD773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F20-B8DA-4D18-8961-7A9FD076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523C-7222-4E19-AF7A-859A91FD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795-61F8-4F88-B124-724D45D6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930-755F-4438-BB75-2C324811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B5E-F08F-4B90-BCE8-F1858140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10E-5E26-4595-AC63-AD14447E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D65D-64E3-4555-8E14-5D852D00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EC1-9A30-4612-BEFD-63FF4739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71E-3873-4C7A-8364-EAF3005F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0C97-6BB6-49B7-A36A-E39D79D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86D-95C1-45DE-8298-5AADD3FB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872-DC68-4FDA-87D6-5BCFF8E6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9A66-C022-4E25-9880-22D04DF8FE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вень адаптации учеников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1 классов ХСШ №108</a:t>
            </a: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 результатам проективного теста межличностных отношений , социальных эмоций и ценностных ориентаций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. А. Ореховой «Доми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124000" y="260280"/>
            <a:ext cx="65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тому, как быстро первоклассники проходят социально-психологическую адаптацию, их можно условно поделить на 3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ация в течение 1,5-2 месяцев обучени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е дети быстро устанавливают контакт с одноклассниками и учителями, легко осваиваются в школе, заводят новых друзей. Они без особых усилий выполняют требования учителя, всегда в хорошем настроении, добросовестно выполняют задания. У таких детей в первое время все же могут возникать сложности в общении с детьми или учителем, но обычно к концу второго месяца учебы эти трудности преодолеваются. Дети быстро принимают новый статус ученика, новые требования и режим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47280" y="1341000"/>
            <a:ext cx="7139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тям требуется 3-4 месяца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, чтобы привыкнуть и принять требования школы. Эти школьники могут не реагировать на замечания педагога, играть на уроках, могут обижаться, в усвоении учебной программы они испытывают трудности. Лишь к концу 2-ой четверти дети осваиваются и начинают вести себя адекватно в соответствии с требованиями школы и учител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619280" y="1557000"/>
            <a:ext cx="7067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ти испытывают значительные трудности в социально-психологической адапт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У таких школьников может отмечаться крайне негативное поведение, нежелание слушаться, выполнять требования учителя. Они могут вступать в спор с педагогами, в драки со сверстниками. Усвоение учебного материала происходит с большим тру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260280"/>
            <a:ext cx="7210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изиологическая адапт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ом классе на плечи ребенка сваливается непривычная для него нагрузка. Какую бы работу ни выполнял школьник: умственную по усвоению новых знаний, статическую нагрузку, сидя в почти неподвижном положении за партой, психологическую от общения в большом коллективе, - на все это детский организм реагирует напряженной работой. И чем больше нагрузка, тем больше ресурсов тратится. А возможности детского организма далеко не безграничны. Поэтому взрослым нужно следить за тем, чтобы ребенок не испытывал длительного напряжения, которое приводит к утомлению и переутомлению, что может негативно отразиться на детском здоровье. Физиологическая адаптация первоклассников занимает 1,5-2 меся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Объект 2" descr=""/>
          <p:cNvPicPr/>
          <p:nvPr/>
        </p:nvPicPr>
        <p:blipFill>
          <a:blip r:embed="rId1"/>
          <a:stretch/>
        </p:blipFill>
        <p:spPr>
          <a:xfrm>
            <a:off x="417600" y="209520"/>
            <a:ext cx="8319960" cy="5934240"/>
          </a:xfrm>
          <a:prstGeom prst="rect">
            <a:avLst/>
          </a:prstGeom>
          <a:ln w="0">
            <a:noFill/>
          </a:ln>
        </p:spPr>
      </p:pic>
      <p:pic>
        <p:nvPicPr>
          <p:cNvPr id="67" name="Диаграмма 3" descr=""/>
          <p:cNvPicPr/>
          <p:nvPr/>
        </p:nvPicPr>
        <p:blipFill>
          <a:blip r:embed="rId2"/>
          <a:stretch/>
        </p:blipFill>
        <p:spPr>
          <a:xfrm>
            <a:off x="704880" y="353880"/>
            <a:ext cx="823896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406440" y="209520"/>
            <a:ext cx="83311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2" descr=""/>
          <p:cNvPicPr/>
          <p:nvPr/>
        </p:nvPicPr>
        <p:blipFill>
          <a:blip r:embed="rId1"/>
          <a:stretch/>
        </p:blipFill>
        <p:spPr>
          <a:xfrm>
            <a:off x="406440" y="209520"/>
            <a:ext cx="833112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ровень мотивации младши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ьников к обучени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Объект 2" descr=""/>
          <p:cNvPicPr/>
          <p:nvPr/>
        </p:nvPicPr>
        <p:blipFill>
          <a:blip r:embed="rId1"/>
          <a:stretch/>
        </p:blipFill>
        <p:spPr>
          <a:xfrm>
            <a:off x="1593720" y="1001880"/>
            <a:ext cx="7601040" cy="5175000"/>
          </a:xfrm>
          <a:prstGeom prst="rect">
            <a:avLst/>
          </a:prstGeom>
          <a:ln w="0">
            <a:noFill/>
          </a:ln>
        </p:spPr>
      </p:pic>
      <p:pic>
        <p:nvPicPr>
          <p:cNvPr id="72" name="Диаграмма 3" descr=""/>
          <p:cNvPicPr/>
          <p:nvPr/>
        </p:nvPicPr>
        <p:blipFill>
          <a:blip r:embed="rId2"/>
          <a:stretch/>
        </p:blipFill>
        <p:spPr>
          <a:xfrm>
            <a:off x="1784520" y="1290600"/>
            <a:ext cx="73022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ношение учеников 1-х классов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предметам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Диаграмма 4" descr=""/>
          <p:cNvPicPr/>
          <p:nvPr/>
        </p:nvPicPr>
        <p:blipFill>
          <a:blip r:embed="rId1"/>
          <a:stretch/>
        </p:blipFill>
        <p:spPr>
          <a:xfrm>
            <a:off x="1065240" y="1217520"/>
            <a:ext cx="7950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эмоционального настроения учеников 1-х классов, когда они находятся до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Объект 2" descr=""/>
          <p:cNvPicPr/>
          <p:nvPr/>
        </p:nvPicPr>
        <p:blipFill>
          <a:blip r:embed="rId1"/>
          <a:stretch/>
        </p:blipFill>
        <p:spPr>
          <a:xfrm>
            <a:off x="992160" y="1362240"/>
            <a:ext cx="8202600" cy="4814640"/>
          </a:xfrm>
          <a:prstGeom prst="rect">
            <a:avLst/>
          </a:prstGeom>
          <a:ln w="0">
            <a:noFill/>
          </a:ln>
        </p:spPr>
      </p:pic>
      <p:pic>
        <p:nvPicPr>
          <p:cNvPr id="77" name="Диаграмма 4" descr=""/>
          <p:cNvPicPr/>
          <p:nvPr/>
        </p:nvPicPr>
        <p:blipFill>
          <a:blip r:embed="rId2"/>
          <a:stretch/>
        </p:blipFill>
        <p:spPr>
          <a:xfrm>
            <a:off x="2000160" y="1074600"/>
            <a:ext cx="68709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42560" y="549000"/>
            <a:ext cx="7643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естественное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ояние человека, проявляющиеся в приспособлении (привыкании) к новым условиям жизни, новой деятельности, новым социальным контактам, новым социальным р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вень общего эмоционального настроение младших школьников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Объект 2" descr=""/>
          <p:cNvPicPr/>
          <p:nvPr/>
        </p:nvPicPr>
        <p:blipFill>
          <a:blip r:embed="rId1"/>
          <a:stretch/>
        </p:blipFill>
        <p:spPr>
          <a:xfrm>
            <a:off x="1295280" y="1217520"/>
            <a:ext cx="7899480" cy="5032440"/>
          </a:xfrm>
          <a:prstGeom prst="rect">
            <a:avLst/>
          </a:prstGeom>
          <a:ln w="0">
            <a:noFill/>
          </a:ln>
        </p:spPr>
      </p:pic>
      <p:pic>
        <p:nvPicPr>
          <p:cNvPr id="80" name="Диаграмма 3" descr=""/>
          <p:cNvPicPr/>
          <p:nvPr/>
        </p:nvPicPr>
        <p:blipFill>
          <a:blip r:embed="rId2"/>
          <a:stretch/>
        </p:blipFill>
        <p:spPr>
          <a:xfrm>
            <a:off x="2000160" y="1217520"/>
            <a:ext cx="67993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бъект 4" descr=""/>
          <p:cNvPicPr/>
          <p:nvPr/>
        </p:nvPicPr>
        <p:blipFill>
          <a:blip r:embed="rId1"/>
          <a:stretch/>
        </p:blipFill>
        <p:spPr>
          <a:xfrm>
            <a:off x="272880" y="209520"/>
            <a:ext cx="846468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Объект 5" descr=""/>
          <p:cNvPicPr/>
          <p:nvPr/>
        </p:nvPicPr>
        <p:blipFill>
          <a:blip r:embed="rId1"/>
          <a:stretch/>
        </p:blipFill>
        <p:spPr>
          <a:xfrm>
            <a:off x="344520" y="209520"/>
            <a:ext cx="859932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ровень адаптац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1-м клас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Объект 4" descr=""/>
          <p:cNvPicPr/>
          <p:nvPr/>
        </p:nvPicPr>
        <p:blipFill>
          <a:blip r:embed="rId1"/>
          <a:stretch/>
        </p:blipFill>
        <p:spPr>
          <a:xfrm>
            <a:off x="2073240" y="1938240"/>
            <a:ext cx="70135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Объект 2" descr=""/>
          <p:cNvPicPr/>
          <p:nvPr/>
        </p:nvPicPr>
        <p:blipFill>
          <a:blip r:embed="rId1"/>
          <a:stretch/>
        </p:blipFill>
        <p:spPr>
          <a:xfrm>
            <a:off x="406440" y="209520"/>
            <a:ext cx="8331120" cy="5967360"/>
          </a:xfrm>
          <a:prstGeom prst="rect">
            <a:avLst/>
          </a:prstGeom>
          <a:ln w="0">
            <a:noFill/>
          </a:ln>
        </p:spPr>
      </p:pic>
      <p:pic>
        <p:nvPicPr>
          <p:cNvPr id="86" name="Диаграмма 3" descr=""/>
          <p:cNvPicPr/>
          <p:nvPr/>
        </p:nvPicPr>
        <p:blipFill>
          <a:blip r:embed="rId2"/>
          <a:stretch/>
        </p:blipFill>
        <p:spPr>
          <a:xfrm>
            <a:off x="488880" y="209520"/>
            <a:ext cx="852660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помоч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оклашк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Объект 2" descr=""/>
          <p:cNvPicPr/>
          <p:nvPr/>
        </p:nvPicPr>
        <p:blipFill>
          <a:blip r:embed="rId1"/>
          <a:stretch/>
        </p:blipFill>
        <p:spPr>
          <a:xfrm>
            <a:off x="863640" y="1506600"/>
            <a:ext cx="833112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268360" y="260280"/>
            <a:ext cx="612000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показатели благоприятной адаптации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хранение физического, психического и социального здоровья де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ановление контактов с учащимися и уч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адекватн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владение навыкам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556000" y="476280"/>
            <a:ext cx="6264000" cy="61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я школьной жизни первоклассник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дение утренней гимнас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подвижных игр на перем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тическое проведение физмину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на деятельности на урок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я разнообразных форм работы(групповая, парная, фронтальная, индивидуаль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ние разнообразных типов уроков (урок-сказка, экскурсия, путешествие, игра, театрализац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270000">
              <a:lnSpc>
                <a:spcPct val="11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людение режима проветривания классной комн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2870280" y="765000"/>
            <a:ext cx="525600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) Привитие гигиенических норм пове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) Релаксация (прослушивание спокойных музыкальных произведений, хоровое пение детских и фольклорных пес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) Рефлексия ( формирование самооценки ребенка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) Выстраивание позитивных взаимоотношений (похвала, ориентируем на успе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лыбка учителя и его доброжелательное отнош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56000" y="692280"/>
            <a:ext cx="5472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становление контактов с учащимися и уч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рганизация игр на знакомство с одноклассниками и учител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ддерживание здоровых контактов в разнообразных формах  совместной деятельности (работа в парах и группа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рганизация дежурства в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здравление именин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d0d0d"/>
                </a:solidFill>
                <a:latin typeface="Times New Roman"/>
              </a:rPr>
              <a:t>Школьная дезадаптаци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26920" y="1413000"/>
            <a:ext cx="60706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0d0d0d"/>
                </a:solidFill>
                <a:uFillTx/>
                <a:latin typeface="Times New Roman"/>
              </a:rPr>
              <a:t>Школьная дезадаптация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</a:rPr>
              <a:t>- это нарушение равновесия гармоничных отношений между школьной средой и ребенком, которые в процессе обучения и воспитания        обнаруживают адаптационные трудности,                 нарушения, проявляющиеся на разных уровнях его развития: биологическом, физиологическом, социальном, психологическ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2513160" y="981000"/>
            <a:ext cx="561636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ормирование адекватного по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комство с правилами школьной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а на личный опыт ребен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суждение положительных примеров из литературных произведений и из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95640" y="404640"/>
            <a:ext cx="59054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владение навыками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своение организационных навыков (внешняя и внутренняя готовность к уроку, порядок на столе, в портфеле, в тетради, контроль за наличием школьных принадлежносте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мение слушать, действовать по инстр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мыслительных процессов: анализ, синтез, классифик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Выполнение логических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Развитие психических процессов: памяти, внимания, вообра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школьной мотив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комендации психолога  классным руководителям по осуществлению благоприятной адаптации учащихся 1-х классов к учебному процессу: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52640"/>
            <a:ext cx="8291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. Учитывать индивидуально - психологические особенности учащихся учебно-воспитательного процес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 . На уроках проводить коллективные занятия, которые способствовали сближению учащихся и помогали застенчивым детям высказывать свою точку зрения, выражать себ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3 . Классным руководителям пересмотреть распределение школьных обязанностей. Привлекать учеников, у которых есть трудности в общении со сверстниками, к коллективной деятельности, участия в различных школьных праздник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 . При работе с детьми акцентировать больше внимания на положительных качествах, что поможет сформировать положительную самооценк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 . Проводить уроки, которые помогают учащимся проявлять свои творческие способ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6 . Помогать ученикам, с низкой мотивацией преодолевать трудности в обучен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 . Стараться не акцентировать внимание на статусе ученика в школьном коллектив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. Проводить с детьми беседы, которые помогают детям справляться со стрессо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 . Отказаться от уравнивания достижений или отдельных черт ребенка с достижениями и чертами других уче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0. Рекомендовать родителям проведение специальных упражнений дома и проведение профилактического лечения при наличии хронических заболеваний, особенно нервной и сердечно-сосудистой систем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1. Родителей, чьи дети имеют высокие показатели дезадаптации по результатам тестирования направить на консультацию к школьному психолог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. Придерживаться режима дня, отдыха, здорового пит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23640" y="1197000"/>
            <a:ext cx="4824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24000" y="3645000"/>
            <a:ext cx="677880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сихолог            Баева Ирина Алексе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84000" y="404640"/>
            <a:ext cx="61311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ричины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стояние здоровь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Социально-бытовое состояние семь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Внутрисемейные отношения (недостатки домашнего тепл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d0d0d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Нарушение режима дн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(перегрузк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2560" y="1557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·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ребенка процессом обуч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  ребенок легко справляется с программой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  степень самостоятельности ребенка при выполнении им учебных заданий, готовность прибегнуть к помощи взрослого лишь ПОСЛЕ               попыток выполнить задание самому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·  удовлетворенность межличностными отношениями – с одноклассниками и учи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Признаки успешной адаптации учащихся 1 класс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70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Признаки дезадаптаци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лый, утомлённый внешний вид ребё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желание ребёнка делиться своими впечатлениями о проведённом д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желания выполнять домашние зад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26560" y="620640"/>
            <a:ext cx="7797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гативные характеристики в адрес школы, учителей, одноклассни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лобы на те или иные события, связанные со школо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покойный сон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удности утреннего пробуждения, вял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оянные жалобы на плохое самочувств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ящий мониторинг </a:t>
            </a:r>
            <a:br>
              <a:rPr sz="3200"/>
            </a:b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1-м класс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1" descr=""/>
          <p:cNvPicPr/>
          <p:nvPr/>
        </p:nvPicPr>
        <p:blipFill>
          <a:blip r:embed="rId1"/>
          <a:stretch/>
        </p:blipFill>
        <p:spPr>
          <a:xfrm>
            <a:off x="-27000" y="1217520"/>
            <a:ext cx="4530600" cy="550224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11" descr=""/>
          <p:cNvPicPr/>
          <p:nvPr/>
        </p:nvPicPr>
        <p:blipFill>
          <a:blip r:embed="rId2"/>
          <a:stretch/>
        </p:blipFill>
        <p:spPr>
          <a:xfrm>
            <a:off x="4376880" y="1217520"/>
            <a:ext cx="481788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050920" y="260280"/>
            <a:ext cx="6647040" cy="57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иды адаптации первокласс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ация ребенка к школе — процесс многоплановый. Его составляющими являю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о-психолог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изиологическа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аптац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составляющие связаны между собой. Успешное обучение, хорошее самочувствие, умение взаимодействовать с одноклассниками и учителями, выполнять школьные требования, - все это возможно при формировании физиологической и социально-психологической адапт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Nataly</cp:lastModifiedBy>
  <dcterms:modified xsi:type="dcterms:W3CDTF">2013-10-18T08:09:09Z</dcterms:modified>
  <cp:revision>37</cp:revision>
  <dc:subject/>
  <dc:title>Слайд 1</dc:title>
</cp:coreProperties>
</file>