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5ED-9768-46F4-B8B8-288DCA9B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472-EFD1-4729-A2A8-2A8D081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362-C88B-4535-B5FB-5FA468CE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AF0-B0E5-49A9-ADA6-53CBEE6F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10C1-879D-413C-BA8A-53BCC7BC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F510-6275-4FA1-90A6-A7AFB38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5AE5-71C2-4736-A676-7FEC92C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55DE-A81E-48DD-A144-68FC6BF7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BDE7-6931-4A47-B744-A821F542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3048-4460-4383-BB8D-94D6C45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9797-A834-4FB5-BA07-29A7375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58F-5A87-47BA-B593-6E40430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D4F-61F5-4962-84E0-9B63659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43B4-98EE-44C0-9E75-3130CAD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9CA-858D-4461-9B1D-07CEA21B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9E7-3973-430C-934E-1D08245A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D57-A150-4F39-B7A9-AFD1413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9A78-BF61-4A40-B1F3-D39DF4AF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E876-BA63-481F-AB80-001E94EF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5952-E023-499A-AE73-2D9D809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6E5C-2FF8-49D2-B2F6-095F7A2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2858-6522-49F3-A96A-FAF0E29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16E-BCF9-4716-8DA5-54D39CC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97B6-EE75-4528-8F58-86869AD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4EC3-9E9C-471F-A2AB-97D6C62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836A-9101-46D1-930A-11E11A60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0C04-C782-4083-A461-772DC1D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EEB97-B187-4BA9-A223-4D940D60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1843-216C-4614-9519-1152EAEC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6925-F588-483B-BE1A-2AEB9F6A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8FF9-6065-472C-B86C-95D35FF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7215-73E7-454F-9E95-ABC734F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E8CF-5451-4090-9951-FCBB411B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221-4720-428C-9B51-4037F4F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11B3-8D29-40F0-9982-E3DF2B7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50AB-F496-4005-987C-5632C731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9385-4020-482B-9ED1-C06D5CDE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385C-BBA1-4F68-83BC-4382577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2351-4391-43D4-84A7-135E2A0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8AC2-0552-499D-A39E-BAB0B93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3C7B-CF77-4D01-ABB3-747A64C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45CB-F88A-4A31-B9F5-9E10A3C3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37FE-9066-4E6A-A7B6-719BE62C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462-141D-4793-B25C-74A53FC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DF5-76CB-4AAC-9013-D5F4AA20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D1A-7848-4F4A-86F1-455B252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74C-7608-4412-B82E-81975D5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302-1A4C-4D0C-B898-0A433C1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3AA4D-EF88-4E3C-AA0B-10BD45C46078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DE058-F801-485D-9492-8E96250F3FE0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9D6B4-C384-4305-8795-E95DC9910BB4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16F58-D040-4A9A-A91A-ED7D5C055708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Текст 3" descr=""/>
          <p:cNvPicPr/>
          <p:nvPr/>
        </p:nvPicPr>
        <p:blipFill>
          <a:blip r:embed="rId1"/>
          <a:stretch/>
        </p:blipFill>
        <p:spPr>
          <a:xfrm>
            <a:off x="835200" y="1401840"/>
            <a:ext cx="861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01280" y="9255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rebuchet MS"/>
              </a:rPr>
              <a:t>Керівник закладу освіти </a:t>
            </a:r>
            <a:r>
              <a:rPr b="1" i="1" lang="uk-UA" sz="3200" spc="-1" strike="noStrike">
                <a:solidFill>
                  <a:srgbClr val="404040"/>
                </a:solidFill>
                <a:latin typeface="Trebuchet MS"/>
              </a:rPr>
              <a:t>– є суб’єктом, на який поширюється дія Закону України «Про запобігання корупції» оскільки є посадовою особою юридичної особи публічного права, яка одержує заробітну плату за рахунок бюджету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236292"/>
                </a:solidFill>
                <a:latin typeface="Trebuchet MS"/>
              </a:rPr>
              <a:t>Вимоги, які виникають, у зв’язку з цим відповідно до ЗУ «Про запобігання корупції :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виконання службових обов’язків сумлінно, результативно та відповідально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додержання вимог закону та етичних норм поведінк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утримання від виконання доручень керівництва, які суперечать закон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неупередженість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недопущення конфлікту інтерес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69960" y="96840"/>
            <a:ext cx="8607240" cy="927000"/>
          </a:xfrm>
          <a:prstGeom prst="rect">
            <a:avLst/>
          </a:prstGeom>
          <a:ln w="0">
            <a:noFill/>
          </a:ln>
        </p:spPr>
      </p:pic>
      <p:pic>
        <p:nvPicPr>
          <p:cNvPr id="232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23760" y="2219400"/>
            <a:ext cx="4359240" cy="2219400"/>
          </a:xfrm>
          <a:prstGeom prst="rect">
            <a:avLst/>
          </a:prstGeom>
          <a:ln w="0">
            <a:noFill/>
          </a:ln>
        </p:spPr>
      </p:pic>
      <p:sp>
        <p:nvSpPr>
          <p:cNvPr id="233" name="Минус 13"/>
          <p:cNvSpPr/>
          <p:nvPr/>
        </p:nvSpPr>
        <p:spPr>
          <a:xfrm>
            <a:off x="4192560" y="2975040"/>
            <a:ext cx="914400" cy="350640"/>
          </a:xfrm>
          <a:prstGeom prst="pie">
            <a:avLst/>
          </a:prstGeom>
          <a:solidFill>
            <a:srgbClr val="fffff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кругленный прямоугольник 14" descr=""/>
          <p:cNvPicPr/>
          <p:nvPr/>
        </p:nvPicPr>
        <p:blipFill>
          <a:blip r:embed="rId3"/>
          <a:stretch/>
        </p:blipFill>
        <p:spPr>
          <a:xfrm>
            <a:off x="4968720" y="1474920"/>
            <a:ext cx="6302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5400" spc="-1" strike="noStrike">
                <a:solidFill>
                  <a:srgbClr val="0f7698"/>
                </a:solidFill>
                <a:latin typeface="Trebuchet MS"/>
              </a:rPr>
              <a:t>Доручення: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1.Забезпечити чітке та безумовне виконання норм антикорупційного законодав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стій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2. Розробити ідентифіковані корупційні ризики в діяльності закладів освіти та заходи щодо їх усунення (мінімізації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До 01.03.202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8607240" cy="10623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2" descr=""/>
          <p:cNvPicPr/>
          <p:nvPr/>
        </p:nvPicPr>
        <p:blipFill>
          <a:blip r:embed="rId2"/>
          <a:stretch/>
        </p:blipFill>
        <p:spPr>
          <a:xfrm>
            <a:off x="298440" y="1347840"/>
            <a:ext cx="9577440" cy="346212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1000080" y="1547640"/>
            <a:ext cx="7790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600" spc="-1" strike="noStrike">
                <a:solidFill>
                  <a:srgbClr val="5fcbef"/>
                </a:solidFill>
                <a:latin typeface="Trebuchet MS"/>
              </a:rPr>
              <a:t>Нормативно-правові акт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25040" y="16383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Закон України “Про запобігання корупції”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Основні заходи щодо реалізації державної антикорупційної політики у виконавчих органах Харківської міської ради у 2019 році, затверджених рішенням виконавчого  комітету Харківської міської ради від 20.02.2019 №84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Основні заходи щодо запобігання корупційним правопорушенням та правопорушенням, пов’язаним із корупцією в Управлінні освіти адміністрації Холодногірського району Харківської міської ради на 2020 рік, затверджених наказом Управління освіти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ід 02.01.2019 № 3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67960" y="2682360"/>
            <a:ext cx="859644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Здійснено перевірку фактів подання декларації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ання суб’єктами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декларування декларацій особи, уповноваженої на виконання функцій держави 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4 посадові особи місцевого самоврядування Управління освіти у 2019 пройшли атестаці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Особисті прийоми громадян начальником Управління освіти здійснювалися в 1-й, 3-й вівторок місяця згідно графіка, який розміщено на офіційному сайті та інформаційному стенді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У 2019 було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ведено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– 20 особистих прийомі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 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Порядок візування 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проектів наказів Управління освіти адміністрації Холодногірського району з основної діяльності та з кадрових питань, з метою виявлення причин, що призводять чи можуть призвести до вчинення корупційних або пов’язаних з корупцією правопорушень уповноваженою 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особою визначено Положенням про уповноважену особу з питань запобігання та виявлення корупції 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 Управлінні освіти яке затверджене наказом Управління освіти від 11.11.2019 № 254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000" spc="-1" strike="noStrike">
                <a:solidFill>
                  <a:srgbClr val="236292"/>
                </a:solidFill>
                <a:latin typeface="Trebuchet MS"/>
              </a:rPr>
              <a:t>За 2019 рік опрацьовано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256 наказів з основної діяльності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225 наказів з кадрових питан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5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9040" y="1757520"/>
            <a:ext cx="85960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Питання антикорупційного законодавства заслуховувалося на нарадах з керівниками закладів загальної середньої освіти та дошкільної освіти (протоколи: від 26.09.2019№13; від 12.02.2019 №2; від 03.10.2019 №10; від 14.06.2019 №7); на колегії Управління освіти (протокол від 26.03.2019 №1); на нарадах начальника (від 25.02.2019 №4). Проведено наради з уповноваженими особами з питань запобігання та виявлення корупції закладів ЗЗСО та ЗДО (протокол від 0.01.2019; від 11.10.2019). Проведено семінар – навчання з особами місцевого самоврядування (протокол від 28.10.2019 №1); індивідуальну бесіду з особою, вперше прийнятою на службу в ОМС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У закладах освіти району проведено 45 нарад з педагогічними працівниками з метою підвищення рівня правової обізнаності з антикорупційним законодавством. Надано 14 консультаці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В закладах освіти району проведено заходи інформаційно-просвітницького антикорупційного характеру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5 круглих стол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12 класних годи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20 батьківських збор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309600"/>
            <a:ext cx="859608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Ідентифіковані корупційні ризики в діяльності керівників закладів освіти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14400" y="1257480"/>
          <a:ext cx="8569440" cy="5499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дентифікований корупційний 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ходи щодо усунення корупційного ризику (мінімізаці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1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Не доброчесність чи упередженість дій  посадових осіб та працівників Управління освіти, під час атестації педагогічних працівників, обумовлена приватним інтересом, який впливає на неупередженість їх дій та ріш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Дотримання </a:t>
                      </a: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в та порядку присвоєння (підтвердження) кваліфікаційних категорій та педагогічних звань за</a:t>
                      </a: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ами діяльності педагогічних працівників у відповідності до Типового положення про атестацію педагогічних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 Створення атестаційної комісії з розподілом функціональних обов’язків членів коміс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Ймовірність не доброчесності та упередженості при порушенні клопотань щодо заохочення та притягнення до дисциплінарної відповідальності працівників закла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Аналіз дотримання працівниками посадових обов’язків, при порушенні клопотань щодо притягнення до дисциплінарної відповідаль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абезпечення публічного прийняття рішень щодо порушення клопотань про заохочення;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годженням з виборним органом первинної профспілкової орган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43120" y="496800"/>
          <a:ext cx="9874080" cy="5934240"/>
        </p:xfrm>
        <a:graphic>
          <a:graphicData uri="http://schemas.openxmlformats.org/drawingml/2006/table">
            <a:tbl>
              <a:tblPr/>
              <a:tblGrid>
                <a:gridCol w="4937040"/>
                <a:gridCol w="493704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дентифікований корупційний 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ходи щодо усунення корупційного ризику (мінімізаці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Ймовірність необ’єктивних висновків за результатами контрольно-аналітичної діяльност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абезпечення відкритості та прозорості при обговоренні результатів перевірок за участю керівника перевіреного закладу, врахування його пояснень з усіх питань перевір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Обговорення результатів перевірки на нара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ливість недоброчесних дій осіб, відповідальних за ведення реєстрації кореспонденції та залучених до процесу роботи з запитами на публічну інформацію,повідомленнями/зверненнями громадян щодо корупційних прояв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Встановлення дієвого контролю з боку керівництва за результатами розгляду звернень та запиті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Неприпущення доручення розгляду звернень та запитів особам, у яких можливе виникнення конфлікту інтересів під час їх розгля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ерсональне попередження про заборону розголошення або використання в інший спосіб у своїх інтересах інформації про викривача та про встановлену адміністративну відповідальність за порушення цієї заборон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9T08:19:52Z</dcterms:created>
  <dc:creator>Elena V. Pavlova</dc:creator>
  <dc:description/>
  <dc:language>en-US</dc:language>
  <cp:lastModifiedBy>Volobueva</cp:lastModifiedBy>
  <cp:lastPrinted>2019-10-17T06:22:03Z</cp:lastPrinted>
  <dcterms:modified xsi:type="dcterms:W3CDTF">2020-02-18T06:41:18Z</dcterms:modified>
  <cp:revision>119</cp:revision>
  <dc:subject/>
  <dc:title>Повідомлення про суттєві зміни в майновому стані</dc:title>
</cp:coreProperties>
</file>