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7018-92E4-4DCC-BD19-EB88AAC4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C4A5-B41F-4C2A-89C8-75ED067B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031-B3BD-4C78-9825-EC28AB2D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A57-242D-46C0-9626-31484F30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D47E-DB4A-452E-860C-EBFFAFD67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2E07-AD5B-4D87-A635-758617CE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F61A-9EB7-4F2F-A868-8949F2B5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3AB5-1FB3-4A2D-9EA4-592D647A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21C0-48ED-4ACD-9EAD-06D3D84D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2394-EE65-4AEC-B4DF-A6A35B73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7480-4E54-419C-A632-A41E5FAE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BEF-3E48-4013-8345-06D70B45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7184-32EA-4D56-993A-4AEDAD6E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E986-F2B4-45A0-B908-597BA9EE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E0A0-4604-4882-8B04-CAABCD95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18B5-34DD-40F5-A085-7300DCB9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460D-2920-4E8A-AF4B-2E85BB0D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67AE-59DB-4ACC-AE9C-F21E1502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22B4-2A2F-425B-93B6-39EADD80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973E-7BA4-40BE-970C-E4C28579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6BCA-129D-4ED8-9ACD-E440F3DE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9F73C-1447-4688-9036-FEFCE876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700-3783-4C47-BD3D-7A6159CF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35FB8-66E3-4A43-A60E-F6A93738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00D86-5DCD-4DC6-81D2-78508C17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2DEC-C497-4348-BA96-1EAC40BF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9A96D-9262-4B1D-8C42-3EEC59E4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9C2B0-676E-46C1-AF59-2237DA8A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BD8AC-00CB-4F67-AA64-C61A90CD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3DD5-DEEE-41AE-B330-E3208635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BF826-61B1-40AE-9C64-33B19566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F90C6-6166-4EDA-AA1F-2218E85D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D4AC2-1491-46DE-989F-287BEAEC9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6FD-1F41-4134-9B5E-B849403D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27E5-3B0D-4EA8-9AD2-DF3F456D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455F-6B5E-4428-BEEC-31C65EEE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BAD95-F5AE-4A60-829B-9555BBD1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5A0B-2B0D-4849-889A-3C65379F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9CCEF-5EF5-4EA4-A2DF-84B87791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6A92-E92E-437A-9435-4454165B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F71FD-E912-4F55-BFA2-B009642B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CF672-50CB-400E-B284-F1EB0762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38368-A87E-4275-AF08-69579BDE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20D-C752-4451-AD31-BC8810CC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58C-E3E3-4656-8278-68882021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F93-570A-4AA2-A023-E6A0D615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9506-0679-447A-9A20-8208AAE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9B9-FEAC-4EF0-AD25-997E804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5110D1-16E1-40D1-86AB-713219857962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prstGeom prst="pie">
              <a:avLst/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DAB3E-C539-4F66-A7AF-83DB5F622504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9BFDF-00D5-4BA7-BB70-348A7386A08A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C39CA-69B7-4472-8678-98FB414C25C7}" type="slidenum">
              <a:rPr b="0" lang="en-US" sz="900" spc="-1" strike="noStrike">
                <a:solidFill>
                  <a:srgbClr val="5fcbe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Текст 3" descr=""/>
          <p:cNvPicPr/>
          <p:nvPr/>
        </p:nvPicPr>
        <p:blipFill>
          <a:blip r:embed="rId1"/>
          <a:stretch/>
        </p:blipFill>
        <p:spPr>
          <a:xfrm>
            <a:off x="835200" y="1401840"/>
            <a:ext cx="86198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701280" y="92556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rebuchet MS"/>
              </a:rPr>
              <a:t>Керівник закладу освіти </a:t>
            </a:r>
            <a:r>
              <a:rPr b="1" i="1" lang="uk-UA" sz="3200" spc="-1" strike="noStrike">
                <a:solidFill>
                  <a:srgbClr val="404040"/>
                </a:solidFill>
                <a:latin typeface="Trebuchet MS"/>
              </a:rPr>
              <a:t>– є суб’єктом, на який поширюється дія Закону України «Про запобігання корупції» оскільки є посадовою особою юридичної особи публічного права, яка одержує заробітну плату за рахунок бюджету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236292"/>
                </a:solidFill>
                <a:latin typeface="Trebuchet MS"/>
              </a:rPr>
              <a:t>Вимоги, які виникають, у зв’язку з цим відповідно до ЗУ «Про запобігання корупції :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rebuchet MS"/>
              </a:rPr>
              <a:t>виконання службових обов’язків сумлінно, результативно та відповідально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rebuchet MS"/>
              </a:rPr>
              <a:t>додержання вимог закону та етичних норм поведінки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rebuchet MS"/>
              </a:rPr>
              <a:t>утримання від виконання доручень керівництва, які суперечать закону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rebuchet MS"/>
              </a:rPr>
              <a:t>неупередженість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rebuchet MS"/>
              </a:rPr>
              <a:t>недопущення конфлікту інтерес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669960" y="96840"/>
            <a:ext cx="8607240" cy="927000"/>
          </a:xfrm>
          <a:prstGeom prst="rect">
            <a:avLst/>
          </a:prstGeom>
          <a:ln w="0">
            <a:noFill/>
          </a:ln>
        </p:spPr>
      </p:pic>
      <p:pic>
        <p:nvPicPr>
          <p:cNvPr id="232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23760" y="2219400"/>
            <a:ext cx="4359240" cy="2219400"/>
          </a:xfrm>
          <a:prstGeom prst="rect">
            <a:avLst/>
          </a:prstGeom>
          <a:ln w="0">
            <a:noFill/>
          </a:ln>
        </p:spPr>
      </p:pic>
      <p:sp>
        <p:nvSpPr>
          <p:cNvPr id="233" name="Минус 13"/>
          <p:cNvSpPr/>
          <p:nvPr/>
        </p:nvSpPr>
        <p:spPr>
          <a:xfrm>
            <a:off x="4192560" y="2975040"/>
            <a:ext cx="914400" cy="350640"/>
          </a:xfrm>
          <a:prstGeom prst="pie">
            <a:avLst/>
          </a:prstGeom>
          <a:solidFill>
            <a:srgbClr val="ffffff"/>
          </a:solidFill>
          <a:ln cap="rnd" w="19080">
            <a:solidFill>
              <a:srgbClr val="4495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Скругленный прямоугольник 14" descr=""/>
          <p:cNvPicPr/>
          <p:nvPr/>
        </p:nvPicPr>
        <p:blipFill>
          <a:blip r:embed="rId3"/>
          <a:stretch/>
        </p:blipFill>
        <p:spPr>
          <a:xfrm>
            <a:off x="4968720" y="1474920"/>
            <a:ext cx="630252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uk-UA" sz="5400" spc="-1" strike="noStrike">
                <a:solidFill>
                  <a:srgbClr val="0f7698"/>
                </a:solidFill>
                <a:latin typeface="Trebuchet MS"/>
              </a:rPr>
              <a:t>Доручення: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1.Забезпечити чітке та безумовне виконання норм антикорупційного законодавств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Постійн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2. Розробити ідентифіковані корупційні ризики в діяльності закладів освіти та заходи щодо їх усунення (мінімізації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До 01.03.202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2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646200" y="133200"/>
            <a:ext cx="8607240" cy="1062360"/>
          </a:xfrm>
          <a:prstGeom prst="rect">
            <a:avLst/>
          </a:prstGeom>
          <a:ln w="0">
            <a:noFill/>
          </a:ln>
        </p:spPr>
      </p:pic>
      <p:pic>
        <p:nvPicPr>
          <p:cNvPr id="238" name="Схема 2" descr=""/>
          <p:cNvPicPr/>
          <p:nvPr/>
        </p:nvPicPr>
        <p:blipFill>
          <a:blip r:embed="rId2"/>
          <a:stretch/>
        </p:blipFill>
        <p:spPr>
          <a:xfrm>
            <a:off x="298440" y="1347840"/>
            <a:ext cx="9577440" cy="3462120"/>
          </a:xfrm>
          <a:prstGeom prst="rect">
            <a:avLst/>
          </a:prstGeom>
          <a:ln w="0">
            <a:noFill/>
          </a:ln>
        </p:spPr>
      </p:pic>
      <p:pic>
        <p:nvPicPr>
          <p:cNvPr id="239" name="Скругленный прямоугольник 10" descr=""/>
          <p:cNvPicPr/>
          <p:nvPr/>
        </p:nvPicPr>
        <p:blipFill>
          <a:blip r:embed="rId3"/>
          <a:stretch/>
        </p:blipFill>
        <p:spPr>
          <a:xfrm>
            <a:off x="1000080" y="1547640"/>
            <a:ext cx="7790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600" spc="-1" strike="noStrike">
                <a:solidFill>
                  <a:srgbClr val="5fcbef"/>
                </a:solidFill>
                <a:latin typeface="Trebuchet MS"/>
              </a:rPr>
              <a:t>Нормативно-правові акт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25040" y="1638360"/>
            <a:ext cx="85964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Закон України “Про запобігання корупції”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Основні заходи щодо реалізації державної антикорупційної політики у виконавчих органах Харківської міської ради у 2019 році, затверджених рішенням виконавчого  комітету Харківської міської ради від 20.02.2019 №84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404040"/>
                </a:solidFill>
                <a:latin typeface="Trebuchet MS"/>
              </a:rPr>
              <a:t>Основні заходи щодо запобігання корупційним правопорушенням та правопорушенням, пов’язаним із корупцією в Управлінні освіти адміністрації Холодногірського району Харківської міської ради на 2020 рік, затверджених наказом Управління освіти </a:t>
            </a:r>
            <a:r>
              <a:rPr b="0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ід 02.01.2019 № 3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8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236292"/>
                </a:solidFill>
                <a:latin typeface="Trebuchet MS"/>
              </a:rPr>
              <a:t>Індикатори виконання Основних заходів щодо реалізації державної антикорупційної політик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67960" y="2682360"/>
            <a:ext cx="859644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Здійснено перевірку фактів подання декларації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дання суб’єктами 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декларування декларацій особи, уповноваженої на виконання функцій держави 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4 посадові особи місцевого самоврядування Управління освіти у 2019 пройшли атестацію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3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236292"/>
                </a:solidFill>
                <a:latin typeface="Trebuchet MS"/>
              </a:rPr>
              <a:t>Індикатори виконання Основних заходів щодо реалізації державної антикорупційної політик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Особисті прийоми громадян начальником Управління освіти здійснювалися в 1-й, 3-й вівторок місяця згідно графіка, який розміщено на офіційному сайті та інформаційному стенді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У 2019 було 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ведено</a:t>
            </a: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 – 20 особистих прийомі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236292"/>
                </a:solidFill>
                <a:latin typeface="Trebuchet MS"/>
              </a:rPr>
              <a:t>Індикатори виконання Основних заходів щодо реалізації державної антикорупційної політики 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Порядок візування </a:t>
            </a: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проектів наказів Управління освіти адміністрації Холодногірського району з основної діяльності та з кадрових питань, з метою виявлення причин, що призводять чи можуть призвести до вчинення корупційних або пов’язаних з корупцією правопорушень уповноваженою 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особою визначено Положенням про уповноважену особу з питань запобігання та виявлення корупції </a:t>
            </a: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в Управлінні освіти яке затверджене наказом Управління освіти від 11.11.2019 № 254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000" spc="-1" strike="noStrike">
                <a:solidFill>
                  <a:srgbClr val="236292"/>
                </a:solidFill>
                <a:latin typeface="Trebuchet MS"/>
              </a:rPr>
              <a:t>За 2019 рік опрацьовано</a:t>
            </a: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                         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256 наказів з основної діяльності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1" lang="uk-UA" sz="2000" spc="-1" strike="noStrike">
                <a:solidFill>
                  <a:srgbClr val="404040"/>
                </a:solidFill>
                <a:latin typeface="Trebuchet MS"/>
              </a:rPr>
              <a:t>225 наказів з кадрових питань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2500" spc="-1" strike="noStrike">
                <a:solidFill>
                  <a:srgbClr val="236292"/>
                </a:solidFill>
                <a:latin typeface="Trebuchet MS"/>
              </a:rPr>
              <a:t>Індикатори виконання Основних заходів щодо реалізації державної антикорупційної політики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9040" y="1757520"/>
            <a:ext cx="85960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Питання антикорупційного законодавства заслуховувалося на нарадах з керівниками закладів загальної середньої освіти та дошкільної освіти (протоколи: від 26.09.2019№13; від 12.02.2019 №2; від 03.10.2019 №10; від 14.06.2019 №7); на колегії Управління освіти (протокол від 26.03.2019 №1); на нарадах начальника (від 25.02.2019 №4). Проведено наради з уповноваженими особами з питань запобігання та виявлення корупції закладів ЗЗСО та ЗДО (протокол від 0.01.2019; від 11.10.2019). Проведено семінар – навчання з особами місцевого самоврядування (протокол від 28.10.2019 №1); індивідуальну бесіду з особою, вперше прийнятою на службу в ОМС)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000" spc="-1" strike="noStrike">
                <a:solidFill>
                  <a:srgbClr val="404040"/>
                </a:solidFill>
                <a:latin typeface="Trebuchet MS"/>
              </a:rPr>
              <a:t>У закладах освіти району проведено 45 нарад з педагогічними працівниками з метою підвищення рівня правової обізнаності з антикорупційним законодавством. Надано 14 консультаці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uk-UA" sz="3200" spc="-1" strike="noStrike">
                <a:solidFill>
                  <a:srgbClr val="236292"/>
                </a:solidFill>
                <a:latin typeface="Trebuchet MS"/>
              </a:rPr>
              <a:t>Індикатори виконання Основних заходів щодо реалізації державної антикорупційної політик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В закладах освіти району проведено заходи інформаційно-просвітницького антикорупційного характеру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5 круглих стол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12 класних годин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Trebuchet MS"/>
              </a:rPr>
              <a:t>20 батьківських зборів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98600" y="309600"/>
            <a:ext cx="859608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8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Ідентифіковані корупційні ризики в діяльності керівників закладів освіти</a:t>
            </a:r>
            <a:br>
              <a:rPr sz="2800"/>
            </a:br>
            <a:endParaRPr b="0" lang="en-US" sz="28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914400" y="1257480"/>
          <a:ext cx="8569440" cy="5499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дентифікований корупційний риз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ходи щодо усунення корупційного ризику (мінімізаці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18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600" spc="-1" strike="noStrike">
                          <a:solidFill>
                            <a:srgbClr val="262626"/>
                          </a:solidFill>
                          <a:latin typeface="Times New Roman"/>
                          <a:ea typeface="Calibri"/>
                        </a:rPr>
                        <a:t>Не доброчесність чи упередженість дій  посадових осіб та працівників Управління освіти, під час атестації педагогічних працівників, обумовлена приватним інтересом, який впливає на неупередженість їх дій та ріш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Дотримання </a:t>
                      </a: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у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мов та порядку присвоєння (підтвердження) кваліфікаційних категорій та педагогічних звань за</a:t>
                      </a:r>
                      <a:r>
                        <a:rPr b="1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результатами діяльності педагогічних працівників у відповідності до Типового положення про атестацію педагогічних праців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 Створення атестаційної комісії з розподілом функціональних обов’язків членів комісії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Ймовірність не доброчесності та упередженості при порушенні клопотань щодо заохочення та притягнення до дисциплінарної відповідальності працівників закла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Аналіз дотримання працівниками посадових обов’язків, при порушенні клопотань щодо притягнення до дисциплінарної відповідальності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Забезпечення публічного прийняття рішень щодо порушення клопотань про заохочення;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годженням з виборним органом первинної профспілкової організації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843120" y="496800"/>
          <a:ext cx="9874080" cy="5934240"/>
        </p:xfrm>
        <a:graphic>
          <a:graphicData uri="http://schemas.openxmlformats.org/drawingml/2006/table">
            <a:tbl>
              <a:tblPr/>
              <a:tblGrid>
                <a:gridCol w="4937040"/>
                <a:gridCol w="493704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дентифікований корупційний риз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uk-UA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ходи щодо усунення корупційного ризику (мінімізації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Ймовірність необ’єктивних висновків за результатами контрольно-аналітичної діяльност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Забезпечення відкритості та прозорості при обговоренні результатів перевірок за участю керівника перевіреного закладу, врахування його пояснень з усіх питань перевір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Обговорення результатів перевірки на нарада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ливість недоброчесних дій осіб, відповідальних за ведення реєстрації кореспонденції та залучених до процесу роботи з запитами на публічну інформацію,повідомленнями/зверненнями громадян щодо корупційних прояв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Встановлення дієвого контролю з боку керівництва за результатами розгляду звернень та запиті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Неприпущення доручення розгляду звернень та запитів особам, у яких можливе виникнення конфлікту інтересів під час їх розгля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ерсональне попередження про заборону розголошення або використання в інший спосіб у своїх інтересах інформації про викривача та про встановлену адміністративну відповідальність за порушення цієї заборони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9T08:19:52Z</dcterms:created>
  <dc:creator>Elena V. Pavlova</dc:creator>
  <dc:description/>
  <dc:language>en-US</dc:language>
  <cp:lastModifiedBy>Volobueva</cp:lastModifiedBy>
  <cp:lastPrinted>2019-10-17T06:22:03Z</cp:lastPrinted>
  <dcterms:modified xsi:type="dcterms:W3CDTF">2020-02-18T06:41:18Z</dcterms:modified>
  <cp:revision>119</cp:revision>
  <dc:subject/>
  <dc:title>Повідомлення про суттєві зміни в майновому стані</dc:title>
</cp:coreProperties>
</file>