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gif" ContentType="image/gif"/>
  <Override PartName="/ppt/media/image7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E361-6995-403B-A59D-2CDFDBBE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253-F15E-4CC5-A93D-7E661F2F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30B-0358-44C4-B7B3-6C1871E2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8486-F978-474C-85F0-852A7DA0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EDAB-15AE-4A5A-8362-10B0D4A7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256E-55FC-478A-B5D0-7C5AFCD1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8542-EE6A-4211-8B10-0EDC0D92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7817-892B-4642-A63C-B501C095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B4DC-B8D2-493E-AD2D-DCC4DEEE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3982-1963-44E3-8BD3-EAE8584D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BC80-C848-4CD7-A5E1-A16B348C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ADA-C63A-46E9-9AA4-DE581307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2DDA-5B28-44DD-9009-0CD795F7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9BED-04E2-4615-A935-3DF94B7A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71D5-B24A-470B-ACA3-7965068E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E872-4B4C-4E45-AEF8-94DBDF01E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61F4-1BD3-4BEF-AC67-AE094904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62E-E7FC-4B00-93DD-F946DD47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35E-0FCD-4313-ADE4-369C4E0B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57F-23A6-4452-9B15-C804436A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A18-903C-43F6-AB89-AE01B73C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E6E-E7F6-4638-A793-2C54F8EF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432-F79A-411A-BF28-A2136CFE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CBD-454C-4F8E-8482-FB323EE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1A99-0F11-4222-A7D3-6FD9CE8F3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C3D3-28E1-4722-8E17-6722CC1F8D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91520" cy="199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cecff"/>
                </a:solidFill>
                <a:latin typeface="Arial"/>
              </a:rPr>
              <a:t>Що гальмує розвиток учнівського самоврядування</a:t>
            </a:r>
            <a:br>
              <a:rPr sz="3800"/>
            </a:b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сутність цілеспрямованої підтримки з боку адміністрації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заємодія на рівні підпорядкування, а не на рівні співпраці та співтворчості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изький рівень поінформованості щодо проектів та програм діяльності дитячих громадських організаці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1" lang="uk-UA" sz="2100" spc="-1" strike="noStrike">
                <a:solidFill>
                  <a:srgbClr val="ffffff"/>
                </a:solidFill>
                <a:latin typeface="Arial"/>
              </a:rPr>
              <a:t>оцінками експертів-дорослих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ипи дитячих громадських організац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0" y="1557360"/>
          <a:ext cx="8893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8893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Кількісний склад дитячих громадських організаці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Object 5"/>
          <p:cNvGraphicFramePr/>
          <p:nvPr/>
        </p:nvGraphicFramePr>
        <p:xfrm>
          <a:off x="900000" y="1628640"/>
          <a:ext cx="7272360" cy="460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272360" cy="46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Цільові орієнтири учнівського самоврядуванн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рияння саморозвитку учнів з метою виявлення організаторських та лідерських як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рганізація ефективного функціонування навчальної групи (забезпечення участі дітей у процесах прийняття рішень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Формування готовності і здібностей продуктивно проживати різня ролі у системі соціальної діяльності людини (доручення, діяльність за власним поклико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567560" cy="2303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r>
              <a:rPr b="1" i="1" lang="uk-UA" sz="4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ffffff"/>
                </a:solidFill>
                <a:latin typeface="Arial"/>
              </a:rPr>
              <a:t>Шкільне самоврядування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– це </a:t>
            </a:r>
            <a:r>
              <a:rPr b="0" lang="uk-UA" sz="3000" spc="-1" strike="noStrike" u="sng">
                <a:solidFill>
                  <a:srgbClr val="ffffff"/>
                </a:solidFill>
                <a:uFillTx/>
                <a:latin typeface="Arial"/>
              </a:rPr>
              <a:t>право,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яким володіють у школі учні, вчителі та бать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9" descr="BD08784_"/>
          <p:cNvPicPr/>
          <p:nvPr/>
        </p:nvPicPr>
        <p:blipFill>
          <a:blip r:embed="rId1"/>
          <a:stretch/>
        </p:blipFill>
        <p:spPr>
          <a:xfrm>
            <a:off x="4716360" y="4365720"/>
            <a:ext cx="44276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18440" cy="163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Шкільне самоврядування – участь у керуванні навчальним закла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8" descr="BL00045_"/>
          <p:cNvPicPr/>
          <p:nvPr/>
        </p:nvPicPr>
        <p:blipFill>
          <a:blip r:embed="rId1"/>
          <a:stretch/>
        </p:blipFill>
        <p:spPr>
          <a:xfrm>
            <a:off x="5292720" y="4508640"/>
            <a:ext cx="3851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84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амоврядування не може підпорядковуватися директору, навпаки, воно впливає на його робо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6" descr="AG00334_"/>
          <p:cNvPicPr/>
          <p:nvPr/>
        </p:nvPicPr>
        <p:blipFill>
          <a:blip r:embed="rId1"/>
          <a:stretch/>
        </p:blipFill>
        <p:spPr>
          <a:xfrm>
            <a:off x="7812000" y="5589720"/>
            <a:ext cx="9622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84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9280" y="2924280"/>
            <a:ext cx="814716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іяльність органів самоврядування має бути спрямована на  рішення шкільних пробл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BS00135_"/>
          <p:cNvPicPr/>
          <p:nvPr/>
        </p:nvPicPr>
        <p:blipFill>
          <a:blip r:embed="rId1"/>
          <a:stretch/>
        </p:blipFill>
        <p:spPr>
          <a:xfrm>
            <a:off x="6012000" y="4941720"/>
            <a:ext cx="31320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62800" cy="1778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Arial"/>
              </a:rPr>
              <a:t>Шкільне самоврядування складається із 4 блоків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Arial"/>
              </a:rPr>
              <a:t>учнівськ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Arial"/>
              </a:rPr>
              <a:t>батьківськ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Arial"/>
              </a:rPr>
              <a:t>педагогічн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ffffff"/>
                </a:solidFill>
                <a:latin typeface="Arial"/>
              </a:rPr>
              <a:t>загальношкільн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ecff"/>
                </a:solidFill>
                <a:latin typeface="Arial"/>
              </a:rPr>
              <a:t>Форми учнівського самоврядуванн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356000" y="5300640"/>
            <a:ext cx="4788000" cy="1152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4535640" y="5589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Шкільний парлам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6"/>
          <p:cNvSpPr/>
          <p:nvPr/>
        </p:nvSpPr>
        <p:spPr>
          <a:xfrm>
            <a:off x="0" y="4365720"/>
            <a:ext cx="4859280" cy="1152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971640" y="4581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Шкільна мері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3419640" y="3141720"/>
            <a:ext cx="5256000" cy="1152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564000" y="3429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Президентська республі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0"/>
          <p:cNvSpPr/>
          <p:nvPr/>
        </p:nvSpPr>
        <p:spPr>
          <a:xfrm>
            <a:off x="324000" y="1700280"/>
            <a:ext cx="4787640" cy="1152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539640" y="1916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Рада старшокласник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18440" cy="1704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cecff"/>
                </a:solidFill>
                <a:latin typeface="Arial"/>
              </a:rPr>
              <a:t>Теорія і практика учнівського самовряд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амоврядування – це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Методичні рекомендації </a:t>
            </a: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лідерам дитячих громадських організацій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творіть свою газету, бюлетень, прагніть до радіо-, телепередач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початкуйте фото експрес «Це – я, це – ми, це – наш дитячий гур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творіть піклувальну (батьківську) раду своєї організаці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Методичні рекомендації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лідерам дитячих громадських організацій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актикуйте зустрічі із дорослими: керівниками міських органів влади, педагогічною, батьківською громад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ийміть своєчасне рішення про батьківську фінансову допомогу у діяльності організації (батьківські внески на розвиток організації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ідкрийте цікаву, сучасну штаб-квартиру своєї організації, в якій можна одержати інформацію пр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сі осередки; членів організації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ітей і дорослих, котрі є членами керівного орган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прави, які відбулись, відбуваються саме зараз, перспективні програми, проект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іяльність районної (міської) організац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320760" y="198360"/>
            <a:ext cx="793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Методичні рекомендації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лідерам дитячих громадських організаці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12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ccecff"/>
                </a:solidFill>
                <a:latin typeface="Arial"/>
              </a:rPr>
              <a:t>Питання для панельної дискусії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ffffff"/>
                </a:solidFill>
                <a:latin typeface="Arial"/>
              </a:rPr>
              <a:t>Чи є в наведених прикладах порушення принципів самоврядування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Засідання учнівської ради проводить вчитель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Заступник директора школи з виховної роботи дав завдання учнівській раді провести шкільне свято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Учнівська рада доповідає зі звітом про свою роботу на педагогічній раді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В учнівську раду дозволено обирати тільки тих, хто добре навчається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В учнівській раді більшість складають дівча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Методичні рекомендації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лідерам дитячих громадських організацій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актикуйте зустрічі із дорослими: керівниками міських органів влади, педагогічною, батьківською громадо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рийміть своєчасне рішення про батьківську фінансову допомогу у діяльності організації (батьківські внески на розвиток організації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200" spc="-1" strike="noStrike">
                <a:solidFill>
                  <a:srgbClr val="ccecff"/>
                </a:solidFill>
                <a:latin typeface="Arial"/>
              </a:rPr>
              <a:t>Питання для панельної дискусії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1471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Учнівська рада повинна показувати свою газету директорові школи, перед тим як вивісити її на шкільний стенд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Засідання учнівської ради проводяться тільки в присутності заступника директора з виховної робо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Учнівська рада вивісила на стенд заяву, в якій критикує наказ директора школ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Учнівська рада опублікувала в місцевій газеті статтю з критикою шкільних порядкі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Учнівська рада, при необхідності може ознайомитися з особистими справами учнів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ffffff"/>
                </a:solidFill>
                <a:latin typeface="Arial"/>
              </a:rPr>
              <a:t>Рада школи прийняла рішення о забороні паління на території школи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ecff"/>
                </a:solidFill>
                <a:latin typeface="Arial"/>
              </a:rPr>
              <a:t>Робота в груп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ff99"/>
                </a:solidFill>
                <a:latin typeface="Arial"/>
              </a:rPr>
              <a:t>І група</a:t>
            </a:r>
            <a:r>
              <a:rPr b="1" lang="uk-UA" sz="2800" spc="-1" strike="noStrike">
                <a:solidFill>
                  <a:srgbClr val="99ff99"/>
                </a:solidFill>
                <a:latin typeface="Arial"/>
              </a:rPr>
              <a:t>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Роль дорослого лідера (педагогічного працівника) в становленні шкільної дитячої громадської організац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ff99"/>
                </a:solidFill>
                <a:latin typeface="Arial"/>
              </a:rPr>
              <a:t>ІІ група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Розробка моделі громадянської організації (структура, атрибутика, планування робот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ff99"/>
                </a:solidFill>
                <a:latin typeface="Arial"/>
              </a:rPr>
              <a:t>ІІІ група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Нормативне забезпечення діяльності дитячої громадської організац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ff99"/>
                </a:solidFill>
                <a:latin typeface="Arial"/>
              </a:rPr>
              <a:t>І</a:t>
            </a:r>
            <a:r>
              <a:rPr b="1" i="1" lang="en-US" sz="2800" spc="-1" strike="noStrike">
                <a:solidFill>
                  <a:srgbClr val="99ff99"/>
                </a:solidFill>
                <a:latin typeface="Arial"/>
              </a:rPr>
              <a:t>V</a:t>
            </a:r>
            <a:r>
              <a:rPr b="1" i="1" lang="uk-UA" sz="2800" spc="-1" strike="noStrike">
                <a:solidFill>
                  <a:srgbClr val="99ff99"/>
                </a:solidFill>
                <a:latin typeface="Arial"/>
              </a:rPr>
              <a:t> група.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Головні умови для успішної діяльності дитячої громадської організації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Arial"/>
              </a:rPr>
              <a:t>Дякую</a:t>
            </a:r>
            <a:r>
              <a:rPr b="1" i="1" lang="uk-UA" sz="4400" spc="-1" strike="noStrike">
                <a:solidFill>
                  <a:srgbClr val="ffffff"/>
                </a:solidFill>
                <a:latin typeface="Arial"/>
              </a:rPr>
              <a:t> за увагу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ecff"/>
                </a:solidFill>
                <a:latin typeface="Arial"/>
              </a:rPr>
              <a:t>Основні періоди в історії дитячого та молодіжного рух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 - (поч.ХХ ст.-сер.20-х р. і кінець 20-х р. ХХ ст.) – становлення і масового розвитку молодіжних різноманітних громадських структу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 - (сер.20-х р. до сер.80-х р. ХХ ст.) – діяльність комсомольської та піонерської організаці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ІІІ - (сер.80-х р. ХХ ст. і донині) – відродження різноманітних громадських о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єднань та організаці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ccecff"/>
                </a:solidFill>
                <a:latin typeface="Arial"/>
              </a:rPr>
              <a:t>І період становле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нтенсивний розвиток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різноманітних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громадських структур (“Січ”, “Сокіл” “Луг”, ПЛАС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родження молодіжної прес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ява перших законодавчих актів з проблем молодіжного рух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ecff"/>
                </a:solidFill>
                <a:latin typeface="Arial"/>
              </a:rPr>
              <a:t>ІІ період – комсомольсько-піонерськ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ростання діяльності широкого спектра громадських молодіжних об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єдна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окремлення піонерської (спілка піонерських організацій України - СПОУ) та комсомольської організацій – резерву і помічника комуністичної парті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ecff"/>
                </a:solidFill>
                <a:latin typeface="Arial"/>
              </a:rPr>
              <a:t>ІІІ період - відродже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родження “неформального молодіжного руху” ( “комунарського”, “хіппі”, “панки”, “металісти” тощо), що поступово вивільняється із піонерсько-комсомольського впли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991 р.- проголошено створення СМОУ – Спілки молодіжних організацій України, СПОУ, ПЛА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Створення нових дитячих і молодіжних організаці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542520"/>
            <a:ext cx="8353440" cy="137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Arial"/>
              </a:rPr>
              <a:t>Нормативні документи, що регламентують діяльність учнівського самоврядування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2080800"/>
            <a:ext cx="83534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Загальна декларація прав людин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Конвенція про права дитин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Конституція Україн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Закон України «Про освіту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Закон України «Про загальну середню освіту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Закон України «Про молодіжні та дитячі громадські організації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Закон України «Про сприяння соціальному становленню та розвитку молоді в Україні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ffffff"/>
                </a:solidFill>
                <a:latin typeface="Arial"/>
              </a:rPr>
              <a:t>Типове положення про загальноосвітній (позашкільний) навчальний заклад та інші локальні акти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542880"/>
            <a:ext cx="799128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cecff"/>
                </a:solidFill>
                <a:latin typeface="Arial"/>
              </a:rPr>
              <a:t>Що гальмує розвиток учнівського самоврядування</a:t>
            </a:r>
            <a:endParaRPr b="0" lang="en-US" sz="3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2081160"/>
            <a:ext cx="842472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нсерватизм мислення, упереджене ставлення до учнівського самоврядування значної частини вчителі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сутність системи навчання лідерів громадських організаці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трах певної групи дорослих делегувати частину своїх прав дітям для участі в управлінні навчальним закла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1" lang="uk-UA" sz="2100" spc="-1" strike="noStrike">
                <a:solidFill>
                  <a:srgbClr val="ffffff"/>
                </a:solidFill>
                <a:latin typeface="Arial"/>
              </a:rPr>
              <a:t>оцінками експертів-дорослих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7892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cecff"/>
                </a:solidFill>
                <a:latin typeface="Arial"/>
              </a:rPr>
              <a:t>Що гальмує розвиток учнівського самоврядування</a:t>
            </a:r>
            <a:endParaRPr b="0" lang="en-US" sz="3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4000" y="2081160"/>
            <a:ext cx="84960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ідсутність ефективного механізму взаємодії та координації зусиль педагогічного, учнівського та батьківського колективів у сфері життєдіяльності самоврядув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підготовленість педагогічних працівників до активної роботи з дитячими громадськими організаці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цінками експертів-доросл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9:40:47Z</dcterms:created>
  <dc:creator>user</dc:creator>
  <dc:description/>
  <dc:language>en-US</dc:language>
  <cp:lastModifiedBy>Игорь</cp:lastModifiedBy>
  <dcterms:modified xsi:type="dcterms:W3CDTF">2011-12-15T19:41:19Z</dcterms:modified>
  <cp:revision>53</cp:revision>
  <dc:subject/>
  <dc:title>Теорія і практика учнівського самоврядування</dc:title>
</cp:coreProperties>
</file>