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gif" ContentType="image/gif"/>
  <Override PartName="/ppt/media/image7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964E-36BE-4618-BE47-9153824E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0F5F-A6DE-427F-9D67-2BF8D888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BCAA-7922-4C4A-9456-0CCC65F0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51F7-3E9F-43C8-B711-D0BE0567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0D3A-6F0F-48E8-A5F0-A92A96DC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6A9C-6E15-4AAB-8C57-DF9100F2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26DC-CDED-49DC-997B-465CF819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A156-2D04-4A4A-80A2-5AF1C890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ACB4-AD71-4FCD-94B5-819472DE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B5BD-6C29-4623-AEC1-61051B09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AD76-60C7-4575-9087-4ADFBC05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F625-AA5D-4AE4-AB9B-1698D695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6C2E-44BF-4627-A9FC-D26B42A4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C121-90D2-4E78-84C4-38F10610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11D1-772D-4C32-8CBC-56830536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E312-2350-47BA-BB96-89476AD7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6695-290E-4D7D-B30F-201F0E30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555A-8B8A-4912-AC64-BEE61F66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DEEA-13A8-467C-86D7-0D9E890C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D166-4B5D-4A9F-8200-667C2C3E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9586-1621-4FCA-B987-9A898FA6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E2FE-7E34-47A1-9582-BCD3BC0D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F3C3-CC48-407A-9CFA-542B0808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8EA9-A053-4659-87AE-9A8AD132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AE36-0999-4067-BBFE-2BFDD9A23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71A6-1752-4629-8DB1-923B6F5D4E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91520" cy="1992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i="1" lang="uk-UA" sz="4400" spc="-1" strike="noStrike">
                <a:solidFill>
                  <a:srgbClr val="ccecff"/>
                </a:solidFill>
                <a:latin typeface="Arial"/>
              </a:rPr>
              <a:t>Теорія і практика учнівського самоврядува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ccecff"/>
                </a:solidFill>
                <a:latin typeface="Arial"/>
              </a:rPr>
              <a:t>Що гальмує розвиток учнівського самоврядування</a:t>
            </a:r>
            <a:br>
              <a:rPr sz="3800"/>
            </a:b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ідсутність цілеспрямованої підтримки з боку адміністрації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заємодія на рівні підпорядкування, а не на рівні співпраці та співтворчості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изький рівень поінформованості щодо проектів та програм діяльності дитячих громадських організаці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за </a:t>
            </a:r>
            <a:r>
              <a:rPr b="1" lang="uk-UA" sz="2100" spc="-1" strike="noStrike">
                <a:solidFill>
                  <a:srgbClr val="ffffff"/>
                </a:solidFill>
                <a:latin typeface="Arial"/>
              </a:rPr>
              <a:t>оцінками експертів-дорослих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Типи дитячих громадських організаці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Object 5"/>
          <p:cNvGraphicFramePr/>
          <p:nvPr/>
        </p:nvGraphicFramePr>
        <p:xfrm>
          <a:off x="0" y="1557360"/>
          <a:ext cx="889308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88930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Кількісний склад дитячих громадських організаці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Object 5"/>
          <p:cNvGraphicFramePr/>
          <p:nvPr/>
        </p:nvGraphicFramePr>
        <p:xfrm>
          <a:off x="900000" y="1628640"/>
          <a:ext cx="7272360" cy="460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28640"/>
                    <a:ext cx="727236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Цільові орієнтири учнівського самоврядуванн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Сприяння саморозвитку учнів з метою виявлення організаторських та лідерських якост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рганізація ефективного функціонування навчальної групи (забезпечення участі дітей у процесах прийняття рішень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Формування готовності і здібностей продуктивно проживати різня ролі у системі соціальної діяльності людини (доручення, діяльність за власним поклико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567560" cy="2303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ecff"/>
                </a:solidFill>
                <a:latin typeface="Arial"/>
              </a:rPr>
              <a:t>Теорія і практика учнівського самоврядування</a:t>
            </a:r>
            <a:r>
              <a:rPr b="1" i="1" lang="uk-UA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ffffff"/>
                </a:solidFill>
                <a:latin typeface="Arial"/>
              </a:rPr>
              <a:t>Шкільне самоврядування</a:t>
            </a: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– це </a:t>
            </a:r>
            <a:r>
              <a:rPr b="0" lang="uk-UA" sz="3000" spc="-1" strike="noStrike" u="sng">
                <a:solidFill>
                  <a:srgbClr val="ffffff"/>
                </a:solidFill>
                <a:uFillTx/>
                <a:latin typeface="Arial"/>
              </a:rPr>
              <a:t>право,</a:t>
            </a: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яким володіють у школі учні, вчителі та бать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9" descr="BD08784_"/>
          <p:cNvPicPr/>
          <p:nvPr/>
        </p:nvPicPr>
        <p:blipFill>
          <a:blip r:embed="rId1"/>
          <a:stretch/>
        </p:blipFill>
        <p:spPr>
          <a:xfrm>
            <a:off x="4716360" y="4365720"/>
            <a:ext cx="4427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1633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ecff"/>
                </a:solidFill>
                <a:latin typeface="Arial"/>
              </a:rPr>
              <a:t>Теорія і практика учнівського самоврядува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Шкільне самоврядування – участь у керуванні навчальним заклад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8" descr="BL00045_"/>
          <p:cNvPicPr/>
          <p:nvPr/>
        </p:nvPicPr>
        <p:blipFill>
          <a:blip r:embed="rId1"/>
          <a:stretch/>
        </p:blipFill>
        <p:spPr>
          <a:xfrm>
            <a:off x="5292720" y="4508640"/>
            <a:ext cx="3851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184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ecff"/>
                </a:solidFill>
                <a:latin typeface="Arial"/>
              </a:rPr>
              <a:t>Теорія і практика учнівського самоврядува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амоврядування не може підпорядковуватися директору, навпаки, воно впливає на його робо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6" descr="AG00334_"/>
          <p:cNvPicPr/>
          <p:nvPr/>
        </p:nvPicPr>
        <p:blipFill>
          <a:blip r:embed="rId1"/>
          <a:stretch/>
        </p:blipFill>
        <p:spPr>
          <a:xfrm>
            <a:off x="7812000" y="5589720"/>
            <a:ext cx="9622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184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ecff"/>
                </a:solidFill>
                <a:latin typeface="Arial"/>
              </a:rPr>
              <a:t>Теорія і практика учнівського самоврядува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9280" y="2924280"/>
            <a:ext cx="814716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іяльність органів самоврядування має бути спрямована на  рішення шкільних пробл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4" descr="BS00135_"/>
          <p:cNvPicPr/>
          <p:nvPr/>
        </p:nvPicPr>
        <p:blipFill>
          <a:blip r:embed="rId1"/>
          <a:stretch/>
        </p:blipFill>
        <p:spPr>
          <a:xfrm>
            <a:off x="6012000" y="4941720"/>
            <a:ext cx="31320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62800" cy="1778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ecff"/>
                </a:solidFill>
                <a:latin typeface="Arial"/>
              </a:rPr>
              <a:t>Теорія і практика учнівського самоврядува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ffffff"/>
                </a:solidFill>
                <a:latin typeface="Arial"/>
              </a:rPr>
              <a:t>Шкільне самоврядування складається із 4 блоків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ffffff"/>
                </a:solidFill>
                <a:latin typeface="Arial"/>
              </a:rPr>
              <a:t>учнівське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ffffff"/>
                </a:solidFill>
                <a:latin typeface="Arial"/>
              </a:rPr>
              <a:t>батьківське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ffffff"/>
                </a:solidFill>
                <a:latin typeface="Arial"/>
              </a:rPr>
              <a:t>педагогічне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ffffff"/>
                </a:solidFill>
                <a:latin typeface="Arial"/>
              </a:rPr>
              <a:t>загальношкільне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ecff"/>
                </a:solidFill>
                <a:latin typeface="Arial"/>
              </a:rPr>
              <a:t>Форми учнівського самоврядуванн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4"/>
          <p:cNvSpPr/>
          <p:nvPr/>
        </p:nvSpPr>
        <p:spPr>
          <a:xfrm>
            <a:off x="4356000" y="5300640"/>
            <a:ext cx="4788000" cy="1152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4535640" y="55897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Times New Roman"/>
              </a:rPr>
              <a:t>Шкільний парламе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Oval 6"/>
          <p:cNvSpPr/>
          <p:nvPr/>
        </p:nvSpPr>
        <p:spPr>
          <a:xfrm>
            <a:off x="0" y="4365720"/>
            <a:ext cx="4859280" cy="1152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971640" y="458136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Times New Roman"/>
              </a:rPr>
              <a:t>Шкільна мері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8"/>
          <p:cNvSpPr/>
          <p:nvPr/>
        </p:nvSpPr>
        <p:spPr>
          <a:xfrm>
            <a:off x="3419640" y="3141720"/>
            <a:ext cx="5256000" cy="1152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3564000" y="342900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Times New Roman"/>
              </a:rPr>
              <a:t>Президентська республі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Oval 10"/>
          <p:cNvSpPr/>
          <p:nvPr/>
        </p:nvSpPr>
        <p:spPr>
          <a:xfrm>
            <a:off x="324000" y="1700280"/>
            <a:ext cx="4787640" cy="1152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539640" y="191628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Times New Roman"/>
              </a:rPr>
              <a:t>Рада старшокласник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18440" cy="1704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ecff"/>
                </a:solidFill>
                <a:latin typeface="Arial"/>
              </a:rPr>
              <a:t>Теорія і практика учнівського самоврядува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Самоврядування – це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Методичні рекомендації </a:t>
            </a:r>
            <a:br>
              <a:rPr sz="2800"/>
            </a:b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лідерам дитячих громадських організацій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творіть свою газету, бюлетень, прагніть до радіо-, телепередач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апочаткуйте фото експрес «Це – я, це – ми, це – наш дитячий гурт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творіть піклувальну (батьківську) раду своєї організації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Методичні рекомендації 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лідерам дитячих громадських організацій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рактикуйте зустрічі із дорослими: керівниками міських органів влади, педагогічною, батьківською громадо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рийміть своєчасне рішення про батьківську фінансову допомогу у діяльності організації (батьківські внески на розвиток організації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ідкрийте цікаву, сучасну штаб-квартиру своєї організації, в якій можна одержати інформацію пр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сі осередки; членів організації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дітей і дорослих, котрі є членами керівного орган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справи, які відбулись, відбуваються саме зараз, перспективні програми, проек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діяльність районної (міської) організації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320760" y="198360"/>
            <a:ext cx="793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Методичні рекомендації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лідерам дитячих громадських організаці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112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ccecff"/>
                </a:solidFill>
                <a:latin typeface="Arial"/>
              </a:rPr>
              <a:t>Питання для панельної дискусії</a:t>
            </a:r>
            <a:endParaRPr b="0" lang="en-US" sz="4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6421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ffffff"/>
                </a:solidFill>
                <a:latin typeface="Arial"/>
              </a:rPr>
              <a:t>Чи є в наведених прикладах порушення принципів самоврядування?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ffffff"/>
                </a:solidFill>
                <a:latin typeface="Arial"/>
              </a:rPr>
              <a:t>Засідання учнівської ради проводить вчитель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ffffff"/>
                </a:solidFill>
                <a:latin typeface="Arial"/>
              </a:rPr>
              <a:t>Заступник директора школи з виховної роботи дав завдання учнівській раді провести шкільне свято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ffffff"/>
                </a:solidFill>
                <a:latin typeface="Arial"/>
              </a:rPr>
              <a:t>Учнівська рада доповідає зі звітом про свою роботу на педагогічній раді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900" spc="-1" strike="noStrike">
                <a:solidFill>
                  <a:srgbClr val="ffffff"/>
                </a:solidFill>
                <a:latin typeface="Arial"/>
              </a:rPr>
              <a:t>В учнівську раду дозволено обирати тільки тих, хто добре навчається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900" spc="-1" strike="noStrike">
                <a:solidFill>
                  <a:srgbClr val="ffffff"/>
                </a:solidFill>
                <a:latin typeface="Arial"/>
              </a:rPr>
              <a:t>В учнівській раді більшість складають дівчата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Методичні рекомендації 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лідерам дитячих громадських організацій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рактикуйте зустрічі із дорослими: керівниками міських органів влади, педагогічною, батьківською громадо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рийміть своєчасне рішення про батьківську фінансову допомогу у діяльності організації (батьківські внески на розвиток організації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ccecff"/>
                </a:solidFill>
                <a:latin typeface="Arial"/>
              </a:rPr>
              <a:t>Питання для панельної дискусії</a:t>
            </a:r>
            <a:endParaRPr b="0" lang="en-US" sz="4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1471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Учнівська рада повинна показувати свою газету директорові школи, перед тим як вивісити її на шкільний стенд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Засідання учнівської ради проводяться тільки в присутності заступника директора з виховної робот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Учнівська рада вивісила на стенд заяву, в якій критикує наказ директора школ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Учнівська рада опублікувала в місцевій газеті статтю з критикою шкільних порядкі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Учнівська рада, при необхідності може ознайомитися з особистими справами учнів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Рада школи прийняла рішення о забороні паління на території школи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ecff"/>
                </a:solidFill>
                <a:latin typeface="Arial"/>
              </a:rPr>
              <a:t>Робота в група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ff99"/>
                </a:solidFill>
                <a:latin typeface="Arial"/>
              </a:rPr>
              <a:t>І група</a:t>
            </a:r>
            <a:r>
              <a:rPr b="1" lang="uk-UA" sz="2800" spc="-1" strike="noStrike">
                <a:solidFill>
                  <a:srgbClr val="99ff99"/>
                </a:solidFill>
                <a:latin typeface="Arial"/>
              </a:rPr>
              <a:t>.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Роль дорослого лідера (педагогічного працівника) в становленні шкільної дитячої громадської організації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ff99"/>
                </a:solidFill>
                <a:latin typeface="Arial"/>
              </a:rPr>
              <a:t>ІІ група.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Розробка моделі громадянської організації (структура, атрибутика, планування робот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ff99"/>
                </a:solidFill>
                <a:latin typeface="Arial"/>
              </a:rPr>
              <a:t>ІІІ група.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Нормативне забезпечення діяльності дитячої громадської організації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ff99"/>
                </a:solidFill>
                <a:latin typeface="Arial"/>
              </a:rPr>
              <a:t>І</a:t>
            </a:r>
            <a:r>
              <a:rPr b="1" i="1" lang="en-US" sz="2800" spc="-1" strike="noStrike">
                <a:solidFill>
                  <a:srgbClr val="99ff99"/>
                </a:solidFill>
                <a:latin typeface="Arial"/>
              </a:rPr>
              <a:t>V</a:t>
            </a:r>
            <a:r>
              <a:rPr b="1" i="1" lang="uk-UA" sz="2800" spc="-1" strike="noStrike">
                <a:solidFill>
                  <a:srgbClr val="99ff99"/>
                </a:solidFill>
                <a:latin typeface="Arial"/>
              </a:rPr>
              <a:t> група.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Головні умови для успішної діяльності дитячої громадської організації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ffff"/>
                </a:solidFill>
                <a:latin typeface="Arial"/>
              </a:rPr>
              <a:t>Дякую</a:t>
            </a: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 за увагу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ecff"/>
                </a:solidFill>
                <a:latin typeface="Arial"/>
              </a:rPr>
              <a:t>Основні періоди в історії дитячого та молодіжного рух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І - (поч.ХХ ст.-сер.20-х р. і кінець 20-х р. ХХ ст.) – становлення і масового розвитку молодіжних різноманітних громадських структу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ІІ - (сер.20-х р. до сер.80-х р. ХХ ст.) – діяльність комсомольської та піонерської організаці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ІІІ - (сер.80-х р. ХХ ст. і донині) – відродження різноманітних громадських о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єднань та організаці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ccecff"/>
                </a:solidFill>
                <a:latin typeface="Arial"/>
              </a:rPr>
              <a:t>І період становле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Інтенсивний розвиток </a:t>
            </a:r>
            <a:r>
              <a:rPr b="0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різноманітних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громадських структур (“Січ”, “Сокіл” “Луг”, ПЛАС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ародження молодіжної пре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оява перших законодавчих актів з проблем молодіжного рух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ecff"/>
                </a:solidFill>
                <a:latin typeface="Arial"/>
              </a:rPr>
              <a:t>ІІ період – комсомольсько-піонерськ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ростання діяльності широкого спектра громадських молодіжних об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єдна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иокремлення піонерської (спілка піонерських організацій України - СПОУ) та комсомольської організацій – резерву і помічника комуністичної парті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ecff"/>
                </a:solidFill>
                <a:latin typeface="Arial"/>
              </a:rPr>
              <a:t>ІІІ період - відродже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Зародження “неформального молодіжного руху” ( “комунарського”, “хіппі”, “панки”, “металісти” тощо), що поступово вивільняється із піонерсько-комсомольського вплив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1991 р.- проголошено створення СМОУ – Спілки молодіжних організацій України, СПОУ, ПЛА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Створення нових дитячих і молодіжних організаці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542520"/>
            <a:ext cx="8353440" cy="137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Нормативні документи, що регламентують діяльність учнівського самоврядування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2080800"/>
            <a:ext cx="835344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Arial"/>
              </a:rPr>
              <a:t>Загальна декларація прав людин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Arial"/>
              </a:rPr>
              <a:t>Конвенція про права дитин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Arial"/>
              </a:rPr>
              <a:t>Конституція Україн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Arial"/>
              </a:rPr>
              <a:t>Закон України «Про освіту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Arial"/>
              </a:rPr>
              <a:t>Закон України «Про загальну середню освіту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Arial"/>
              </a:rPr>
              <a:t>Закон України «Про молодіжні та дитячі громадські організації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Arial"/>
              </a:rPr>
              <a:t>Закон України «Про сприяння соціальному становленню та розвитку молоді в Україні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Arial"/>
              </a:rPr>
              <a:t>Типове положення про загальноосвітній (позашкільний) навчальний заклад та інші локальні акт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542880"/>
            <a:ext cx="7991280" cy="130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ccecff"/>
                </a:solidFill>
                <a:latin typeface="Arial"/>
              </a:rPr>
              <a:t>Що гальмує розвиток учнівського самоврядування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5280" y="2081160"/>
            <a:ext cx="842472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онсерватизм мислення, упереджене ставлення до учнівського самоврядування значної частини вчителі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ідсутність системи навчання лідерів громадських організаці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трах певної групи дорослих делегувати частину своїх прав дітям для участі в управлінні навчальним заклад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за </a:t>
            </a:r>
            <a:r>
              <a:rPr b="1" lang="uk-UA" sz="2100" spc="-1" strike="noStrike">
                <a:solidFill>
                  <a:srgbClr val="ffffff"/>
                </a:solidFill>
                <a:latin typeface="Arial"/>
              </a:rPr>
              <a:t>оцінками експертів-дорослих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27892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ccecff"/>
                </a:solidFill>
                <a:latin typeface="Arial"/>
              </a:rPr>
              <a:t>Що гальмує розвиток учнівського самоврядування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2081160"/>
            <a:ext cx="849600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ідсутність ефективного механізму взаємодії та координації зусиль педагогічного, учнівського та батьківського колективів у сфері життєдіяльності самоврядуванн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епідготовленість педагогічних працівників до активної роботи з дитячими громадськими організаці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оцінками експертів-доросл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9:40:47Z</dcterms:created>
  <dc:creator>user</dc:creator>
  <dc:description/>
  <dc:language>en-US</dc:language>
  <cp:lastModifiedBy>Игорь</cp:lastModifiedBy>
  <dcterms:modified xsi:type="dcterms:W3CDTF">2011-12-15T19:41:19Z</dcterms:modified>
  <cp:revision>53</cp:revision>
  <dc:subject/>
  <dc:title>Теорія і практика учнівського самоврядування</dc:title>
</cp:coreProperties>
</file>