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B2B-38E0-4498-9FF2-F896CF9F4F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A087-25B7-4312-B708-B9812754C7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C98-7276-46E9-AFE5-24501B4FD9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127-6522-4AD0-A0E1-E2F57917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514-87E1-48D3-BCB7-40DDF68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18499-2113-487C-A44E-A370BB5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57054-5D18-49EC-9C11-F4B31D1E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7E41E-E841-46C8-86DF-8C366E3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F09C1-448D-4D9D-8C21-827644B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D2555-2BB3-4D26-8D42-E0BEC0D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68B44-4C70-498E-950C-EB651E7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60BFA-36FC-42A5-9D2B-DD65D98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621A0-3641-48C4-9E8C-285CD495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02CCB-A0F1-44BF-9FF7-66AB0763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1B2BA-3A57-40DA-A40C-2C8FA5C7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E35-B688-4CD1-BACC-C93B121E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8C644-0A73-4D41-8A1C-989CA81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E17BF-B72F-4C70-AB85-579FFE3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B85BD-2255-4C61-9BA2-395EE96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05417-9EEC-4F94-8EB7-38A25899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E0DF4-F725-41EE-95F9-58808E2C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D0437-DF3C-4436-9DB7-4E9EE02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15D7-52C7-4293-A541-253265A0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4C3F1-7E5D-4E59-A99C-F2C927D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3665A-8069-48FF-932F-CB7BD43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27A9C-4776-4894-AF21-1D715513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A2B-BA38-4689-AFA6-ECDB09F3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01F5-5A8C-44FA-8C7A-9CB3166D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8C6AC-787B-4CD1-8010-C2D798CC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F02ED-5B02-4552-B2D3-B96C91F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8AEA-63F8-4BE6-B068-673BCEB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9A1AB-F73C-4876-8CF8-102DFE0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AD782-51BD-4C18-9505-3EF2D1B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DC0AE-6196-432C-9C8C-A90357A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880BF-1A78-460B-A08B-C15CCB66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30D0D-3F3D-437A-B06C-699F73CD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D74F4-FE4E-4289-A444-57F786C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FA16-E22E-46CC-9A18-90542F5F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4CF24-6245-4CF1-A1DE-267B4F31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4BFC8-5A47-4DF9-8873-3FF9BEC3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F0398-6C78-4459-A4D9-AA1594B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A5916-7D8E-4BD3-BDA7-2F71E550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659BD-8456-46B4-8F1A-99906399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760F4-1504-4171-B5F4-B4FDE44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A8097-91A1-440E-8033-0E12D79C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6E9D3-9D1A-425A-8C98-BF9B647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EE61F-544B-4C0B-AB69-870E377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142CD-0963-4843-BC83-DCAA3A6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C199-C6A2-45F4-8926-DF47C956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4B017-3E56-4676-B7CE-25AAE7E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D260B-0C7F-4DB9-970F-FA6475B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149DE-A097-4119-B135-8A0C7308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85710-18F5-4D06-AB26-9BF14DDE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FDBED-3EAF-4980-9586-C5FA4B7B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D072B-B4C8-4B2F-88E0-F23F4983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C845A-6DEC-42D6-9B8F-071B4EFC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B4509-7683-4D99-B5AB-9BF3429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7F275-9B5D-4327-AC5E-7C5B6401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1E27F-85DE-42F0-B857-6125C66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4AF5-BF56-4878-9822-78CFAB0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46084-7EFE-4792-AEF6-E9B86F4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B9BAE-2A3E-40B0-AC75-5F63ED6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4FE91-8044-4B9A-952E-1026F70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934F9-0506-4CA1-B535-B115825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DF8BF-A390-4966-AEBA-DCBD10F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547D9-18C7-4880-A5B1-E9333338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7015A-6266-4D5F-BDF9-867B7021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E0DAA-E38F-4F03-8B30-348890D5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23A29-3006-478E-BC7B-C191BA83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8D6F5-FBB1-4CFD-9680-D8CA5F3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7FFE-2E3F-4130-BA9B-9557515D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E29C9-5C7C-419D-9F6D-06C60971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61F17-98F7-4200-8FCD-70482CA7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BCF64-90E1-4393-B71E-EF214FF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69ABA-0E90-405F-8931-C18B460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D21D8-2D52-40E8-AB6A-677F371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5061A-3970-488F-A17C-32069B5D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BB0A8-2861-46F7-BCDB-CD79E8F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A3402-3988-4D84-BFE9-E4689F1B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0EA6E-BA06-4263-8636-019D1A6A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F8518-A832-4CE3-9D9D-5350BD49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52B-649C-4C81-AB51-DD74D4E4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16557-F9C3-4D81-A4E6-41CB544D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B0857-7BF4-4BE7-8836-9D5C8649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9D87C-2048-4359-AA16-66F8B95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FD0D9-E56D-4CCD-B8CD-DF5A387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7A691-D705-4E39-A997-74DBF4EB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52636-D8FE-4F12-B493-E3F571E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1280E-B203-443A-BB98-1B24798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B3CEA-B684-46D6-8082-EA1DD92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FD977-174F-4C86-A5FD-B4C6D1B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73C40-FA4F-447A-9364-1BA43D1F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2EC-5DB6-4279-AFAB-D372B99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E0DA8-9E6F-4BF0-A610-F5C3A573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2D542-F51E-4C23-8A64-3AD769C0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7492B-E529-41B6-B77A-64B7266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2E920-9977-4A67-9B03-1320F9A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ECAB5-A5C2-417B-B24A-0CC9E75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643D9-A2F4-44EE-9795-95001C7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4135A-8DC5-4ECD-8AA6-A29C621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EDC5E-BBC5-4B0E-8B45-58AFCA8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5CE7D-3A0D-43D5-A9A0-51CA7FDD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2D0E1-908E-450F-9C79-936B3D6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B22D-F864-4E97-8153-1ED7530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903DB-83A8-4022-9BBC-7690B4C6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3C1D0-B686-49F8-BED7-7080E919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50CFE-F260-422F-967F-11752FE8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46783-D049-49A3-B3FF-EB32DE8D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A7D46-D083-4E84-A191-25F2AF2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51258-3070-4407-9E1B-7C6C1CE4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C33CD-0500-4BC7-BD76-35940202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A7BA1-FAF2-42A1-AEA0-392908A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FE895-F374-40A4-B55F-6D7B89FC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7AB18-8944-476D-B80E-02E3670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205-527D-4023-BABD-0A65D47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38C-55D1-4203-92C7-43A0FE2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67C49-219D-4BCC-B2E5-916D790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91951-5AAB-423D-9478-08BC859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3C588-057C-4F96-BA60-FD2DF86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4773B-A5C5-4335-9ABF-714A8D68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EB508-C0D5-4DB8-B698-F18E003C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5055C-6A8C-47AB-962E-3EFDB085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59CD8-0E5B-4177-98FD-47E5FC0E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A08F5-5CCB-4D97-9E3C-1A937305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9662F-E6A2-4601-99BD-73AAD57C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3F355-BB58-450D-8C8C-D135F872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9A38-FE02-489E-B6F1-623FB53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71935-A6A1-4ACB-B3D9-64B67B88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68865-0EA0-49F2-91E4-1C7BBBA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9D3C0-809D-4497-AD99-37B7A0E5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95469-BC88-4FE7-A2AD-C73260C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DC720-DFCA-4CC6-B6ED-0B2F310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596BC-61A3-4345-BD0C-191854D5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955BD-7926-479A-8499-3C1281F9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FAC2D-ED9F-43B4-8C15-2D1D26FC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AC75F-6E24-4AA7-965D-D872E30F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25D75-4DE4-49EF-A6DB-4BB5CD1E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3A3-588B-4ACE-97FE-2EFD11D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8B03C-0E28-411B-AE01-36BA5832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23C6B-F3F1-464A-BD76-3AA06328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BC9CE-CF93-4608-9C74-4B4EC56F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72BB23-6266-4053-A06E-AF87F110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15B1F-7937-4B9B-B1A8-3C579BD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1E8B4-F4EA-4929-99BA-C79F99C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C5FB1-9342-4A0A-934B-4674183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18FC56-CE56-4BC5-8337-0D16E274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201C5-0605-45CC-8403-1BB58765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E64EA-C321-4DFD-8B30-4B8C3C46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9CC1-F5B2-4E2A-9033-1355FEF0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F262C-8A7E-40CE-BE41-57EC67D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172F5-5D54-49B1-9500-C0738BB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B09EA-E51C-4E37-9E53-892A837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4EFD3-53B4-4D0C-B56E-A5B8B37D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3EA6C-5FE4-43A1-A659-90FE5D15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3FF34-A414-43F3-9CDD-7AF5549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440DE-6D2B-44E3-A0D4-25610B8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59E81-CA96-4712-9BA0-5C08C1F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1D45E8-2630-4E8B-A419-496542DA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0C486-55CC-4EA8-AC7D-94822C61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599D-CA90-4C4F-A2DF-8B9F822C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F0AB7-FB16-4984-BBCB-5578D42C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311F4-A214-4527-8537-0E2A6C6F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ED140-1E9E-4608-BE3C-797CB5A1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E5AC7-3452-4460-859B-D46E921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0DB14-0A7C-452D-8467-E773966C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689C4-4843-415D-A9DB-D71261F5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57B7C-B34F-4272-A1A6-CDD9F33D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CD5A5-053A-4AD3-8DF9-7A7ADD5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C57F4-7181-4AF7-9558-354084B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853C4-DD4E-47E1-8E42-13E95F1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BF78-FC48-44FA-8085-F8BD4683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5FB30-CC9E-4306-AD7E-9815D095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3F88C-FEE5-41BD-A963-2F844B38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B489D-B930-481C-AECD-14B5B292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9E062-195D-44E3-B8C9-E330118B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FBD717-6053-433B-B747-8CEDC6C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D2A0E-79D6-465E-8EFA-C4AE21E3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7132EF-30BB-4108-BD84-CA76CEDA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F21EDB-4EA9-4716-B92D-5AFDE92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3ED276-A911-4E37-AEED-6472E8B1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EFED9F-87BB-42A8-9FF7-8D7C152C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F42C-4F88-4D31-AE68-EC8397F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AB50E5-29DA-4A4A-A779-CD0D0F3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5B58F-5499-4377-B20B-6760EEE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07E5F0-6111-484E-8599-B12506BE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7E06B-3FE8-41F5-BF0E-E4F4E293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73D853-07A7-42F6-87CB-396CD0C1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E28F3-D1AC-4A87-A7BF-B716C64C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915EFB-AFAB-4CAB-A29B-FE7A660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F3CCD-AA81-40FC-9ACD-90CAB963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A1BDB5-7514-48B1-BDA7-3EF0F100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F355E-0AB5-43F1-8127-D5CE001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3B4A-9C21-42ED-8BC7-11CFBBA2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8D91F0-CDE9-45CF-960B-BCEFC8E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47A82-E797-4EFC-BDC6-FABE04A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0F2A12-746B-4808-A036-C0901DC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29EA2-A76D-43E3-AAB4-B4E4140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D9CF48-9875-415E-90C8-0C7D166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3B5DAF-2F94-468F-8D3D-9D4F514E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E5E52F-916E-4BA5-8888-49902DFE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927BB-F2A7-47BD-9307-FCFFED68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989B2B-2829-4F8E-80AA-6916CDF9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0DDA5E-51FC-411B-9FEE-3C4877A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3912-A5A4-4D60-AD59-75D2CE24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C1E3A7-3606-4CEA-A344-88C5ADBB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E0926E-436A-4022-89B8-903EB9D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ADDB6A-0779-43E0-B86B-9072E1D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55903-D807-4DD3-AF0A-BCAFA1B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FB6430-4E71-45C0-9D8B-AFC4BE2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AB995-5381-428B-9632-66A48B6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32BE1F-C39F-4B9C-B712-5ED13D88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570C20-9B17-4528-B7FA-87423FCD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7DB3F-DD32-4249-88A1-51AD1CCD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FE206-7126-40C8-A9D0-217C3E90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5B82-BAFA-4A20-93CB-E06576FC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18AF59-64EC-41CB-AF1F-7ACB8328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98044E-796C-41EF-B0B8-FA633F5F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458232-271D-4B43-98B6-6FA631A2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00A12-CADE-4C73-8DEB-9F4AC506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6FE601-8DCA-45F0-9172-4A93D838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8C866B-80A3-4A88-A713-5198C41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2CC0F-0923-4A7C-9F2C-7A19928A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EB8ACB-BF0F-411A-90F5-83E0FFB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EF5AEB-D4F1-4886-9D41-B67ADE2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B60EC6-AEBC-4133-A209-353DFD9B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1D9-C97F-4FFA-A7E3-C99593C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7BC3-C873-41D0-ACDB-78C150D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957C52-AF37-462A-A3DA-38307D4B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709D9A-5C1B-4400-A105-4A3FEFD6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CAF2EB-6B5B-42C0-B831-C89E7EC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3353E6-A1A3-4D85-8549-8F52F172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CC708B-455F-41D9-A3C6-D119081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D6BC1B-2E3C-410A-B75E-0107A8E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DE6AF-A58B-46C6-A565-BB736583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D124E0-16CA-46F1-A825-4CEFC79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E89FA2-68B9-4F77-932E-845F995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21E23-77E3-46AE-A286-FBE3544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D161-5B6A-4670-8CFB-32240A2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476F7B-94B5-46BB-BFCE-6552B76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8987EC-289E-417F-BA74-29ED1E68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79A8A7-CFC6-4859-8E26-4F0B8C22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43A1B-1C8F-4902-A2AA-C12A0EBE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A5934B-6205-4372-93C6-7A9D1CB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A601ED-8CD4-497A-A2B2-1BACA3F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6DD37D-24F1-43C7-B74C-24AECB62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E76E10-0D17-4CEA-A568-C3657D3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0E2FF4-9990-4D81-8C89-8A2198E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7B05D-05F2-475F-938F-1EB9483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CB57-C0F9-4454-8DE5-86232B5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8E6D3E-D1CE-4313-9E26-CDA34B3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2570DF-1D28-45D0-9F31-B973A7C8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E9E785-7588-4834-8D58-7F10E47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A7704A-3DD0-4949-95A1-11DE5217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724424-9DF0-404B-9643-1E6DD0E3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006D-8C14-4BC0-855F-3D1B500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8DC3-6334-4872-8912-BBB4D5D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FFE6-2741-499B-B892-06C9BB05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F6A9-736D-4067-B285-B7FDD8CD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20EC-F37C-4FAA-A06C-4783FF57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127F-84A8-4CEA-B29A-ADD14D26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3079-CDC4-4534-8200-B7C5601E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632-E9B2-4B40-87D3-DF840D7F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6A1D-1C22-4E56-B94B-1C1F0309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C409-A001-4D6B-B1C3-2506DB42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5F26-315E-4536-89A0-2D94176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3E1C-1BC4-4EF4-BF15-792CCA1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03C9-F6D7-4ADB-85C8-C3F03C6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9ADD-2785-4B3A-8FD2-61A9225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F00CB-123B-4A24-B0CE-4117E40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AA2B-67D5-46E9-930F-08CB9C95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70EA-0928-4520-A2CD-CFE22601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D068-2926-4543-989A-2F1C8AB6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156-B037-4E53-9EA6-66C5D259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B853-E0B5-4AD9-A3DA-7229CAC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BA0D-BB5D-4CFB-BC8F-4FDCD8E6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CED5-2395-4519-89BC-DFC0D2A1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64D9B-098C-46C6-B834-63EDA1E8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0D76A-BFE0-4FCB-B9C3-794865AC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EA50-1942-4BBA-AEE8-D8B83E5E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DA4C-C11E-4436-91E1-F9788AD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FC22-1D22-409A-8C2B-E413860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C71F-03D1-4670-B2AF-E28C895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E629-1769-46C4-8B0E-F9E45E93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289-064D-41F8-AF6F-FCC6D1C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4FD2-36E9-4A82-B542-FD07EA36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19FC-9AAE-4000-BBFB-AD527591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E725-65E6-4726-BCEC-BB278DC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9DC9-FD56-468D-9A69-18CC5BB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9F16-968E-49F2-82E2-D343B63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45FE0-EF45-481A-A5B8-AED598B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7B312-A0AE-484D-9964-106B58E1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45C1C-1101-4F39-BA63-B5EAE42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247B1-9A49-452A-9108-8F803E0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8D1F-9EE5-476C-A4AB-66AA8BF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AB8-1BFE-431A-B3E9-73AFE088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8183-3732-4D10-A95F-75FFDA3E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FB74-2C6B-4704-B805-A082EBCD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EB10-5F69-4975-AD97-187FA8D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AB6C3-68DA-42F8-90E8-C8B4742C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23AE3-D6CA-4FC8-BDA7-1944DFCA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A760-2203-4877-97E0-C0854DA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81C4B-E96A-4B92-BCB5-C7266F3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37C9-D5C1-43F9-B48A-952A535F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467C-72CE-45D8-AD45-2B5308A6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2B97-9202-45E0-9759-777D3FC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CAA-A191-4220-AC0E-44E8EF9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46A63-2BF8-48CD-B849-51A1FB6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A282-1F85-414E-9036-AAAAB26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A0AFD-5342-418D-ABC6-86A55F10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BF5B0-883C-4FC2-BA21-7DFA6DE9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FC70-C683-4210-8F32-AC8E8B40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DEA6-E612-4BFB-A5B9-44619315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EC99F-479B-4DA2-B919-1E83403B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C2E1E-AC7C-4118-8EE5-8A0102B4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BECD-8FC6-43B3-8DB7-9F333BE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BBEF-4E47-48C5-B3B6-5B227A1F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672-F809-48BC-B894-5DFE14F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03E6-6CD3-4A08-A742-3B05B7FC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4D35E-475B-4041-8ADA-6771246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35DF-329B-4B7A-A007-C6A9713F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53A2-1A6C-44F9-8217-4334018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E055-2F7B-40CB-84B1-3926D6D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7D09-CA2B-4F06-BF88-1ECFA96C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0CCEE-4997-4440-B595-B8D2736B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C3279-53D2-47CF-BE07-D5CB3762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53949-B481-4C0A-A3DD-AEC5860D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20199-2C56-45D0-BCD7-71FAC3BF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hyperlink" Target="http://www.sabak.adamzat.kz/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d576e476271.png"/>
          <p:cNvPicPr/>
          <p:nvPr/>
        </p:nvPicPr>
        <p:blipFill>
          <a:blip r:embed="rId3"/>
          <a:srcRect l="65646" t="35419" r="6195" b="33335"/>
          <a:stretch/>
        </p:blipFill>
        <p:spPr>
          <a:xfrm>
            <a:off x="6858000" y="450072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892D-C2D4-4EE7-9194-E0E8E4F5D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C0CF-92B9-4590-9A49-665F34A3DC1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D287-976E-4F41-99EC-8ECB8BDB7B7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239-B027-4D93-8F71-D4BDEDD098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C66E-E49B-43AD-A7F2-7114D1BE7B1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B77-F869-4354-99C3-C8E562A771A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F2F7-A5A6-4404-8133-659DC833E8D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2165-FE0E-4897-9BF1-3EA38BCE336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8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Рисунок4"/>
          <p:cNvPicPr/>
          <p:nvPr/>
        </p:nvPicPr>
        <p:blipFill>
          <a:blip r:embed="rId3"/>
          <a:stretch/>
        </p:blipFill>
        <p:spPr>
          <a:xfrm>
            <a:off x="7693200" y="5572080"/>
            <a:ext cx="1450800" cy="12859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A2FA-01E6-49D8-BCA4-A1300D4CC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6E90-C690-4D2F-A654-748C65EE4A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CF8-938C-4FDB-8453-808047BB15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</a:tabLst>
            </a:pPr>
            <a:fld id="{06DC53A2-D679-48A7-BB9E-965CE39052D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583A-DFB5-4E53-98AC-B608C4E1ED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0EB-CFEE-4B4A-AC19-847D602C26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9A16-1C8C-4EB2-BBA5-FED961023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922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181-DDA2-4DD5-8666-97730DB3A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2AD-97BB-41C8-BE16-864C34792C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042-B0BE-4920-9243-67288679B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C2AB-C548-4262-80FE-6219FDA3D7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1094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44B4-CB63-41CC-9F03-03CDDA8A60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2847-8284-40C1-8AB5-A66FF4459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0d18c7b4a0b2.png"/>
          <p:cNvPicPr/>
          <p:nvPr/>
        </p:nvPicPr>
        <p:blipFill>
          <a:blip r:embed="rId3"/>
          <a:stretch/>
        </p:blipFill>
        <p:spPr>
          <a:xfrm>
            <a:off x="285840" y="285840"/>
            <a:ext cx="8858160" cy="6286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46E-6C19-4025-A6DE-A886CDAC9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1d576e476271.png"/>
          <p:cNvPicPr/>
          <p:nvPr/>
        </p:nvPicPr>
        <p:blipFill>
          <a:blip r:embed="rId3"/>
          <a:srcRect l="65646" t="35419" r="6195" b="33335"/>
          <a:stretch/>
        </p:blipFill>
        <p:spPr>
          <a:xfrm>
            <a:off x="6858000" y="450072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1da7fa4767f7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99B-BEA5-4E0E-834E-D664A308A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E521-9546-4763-9CD0-DB0EC229D60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BC57-5C04-4789-8B15-E158ECE81A4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6CAC-C268-4275-B302-59744202C05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FB83-75EE-44CB-A226-C8A3A3E2825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ХСШ №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WordArt 4"/>
          <p:cNvSpPr txBox="1"/>
          <p:nvPr/>
        </p:nvSpPr>
        <p:spPr>
          <a:xfrm>
            <a:off x="755640" y="184464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4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иждень 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5" name="Подзаголовок 2"/>
          <p:cNvSpPr/>
          <p:nvPr/>
        </p:nvSpPr>
        <p:spPr>
          <a:xfrm>
            <a:off x="1484280" y="8445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1.02.2013 – 15.02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Подзаголовок 2"/>
          <p:cNvSpPr/>
          <p:nvPr/>
        </p:nvSpPr>
        <p:spPr>
          <a:xfrm>
            <a:off x="1332000" y="4365720"/>
            <a:ext cx="611172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Arial"/>
                <a:ea typeface="MS Gothic"/>
              </a:rPr>
              <a:t>Організатор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"/>
                <a:ea typeface="MS Gothic"/>
              </a:rPr>
              <a:t>Вчителі математики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"/>
                <a:ea typeface="MS Gothic"/>
              </a:rPr>
              <a:t>Москалець Р.М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"/>
                <a:ea typeface="MS Gothic"/>
              </a:rPr>
              <a:t>Чигринова Ю.Є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Прямоугольник 1"/>
          <p:cNvSpPr/>
          <p:nvPr/>
        </p:nvSpPr>
        <p:spPr>
          <a:xfrm>
            <a:off x="2236680" y="255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я заходів тижня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 і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"/>
          <p:cNvGraphicFramePr/>
          <p:nvPr/>
        </p:nvGraphicFramePr>
        <p:xfrm>
          <a:off x="395280" y="1268280"/>
          <a:ext cx="5905440" cy="5275440"/>
        </p:xfrm>
        <a:graphic>
          <a:graphicData uri="http://schemas.openxmlformats.org/drawingml/2006/table">
            <a:tbl>
              <a:tblPr/>
              <a:tblGrid>
                <a:gridCol w="504720"/>
                <a:gridCol w="3456000"/>
                <a:gridCol w="552600"/>
                <a:gridCol w="1392120"/>
              </a:tblGrid>
              <a:tr h="4222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і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формлення кабінетів за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Засідання орг..коміт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онкурс стіннів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укціон зн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1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дкриття тижня математ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атематичний брейн - рин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Математична гра «Розумники та розумниці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онкурс малюнкі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Конкурс презентація «Моя улюблена ш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атематтиичний К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орож до країни «Математ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онкурс на кращий математичний тві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ута Л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менкоВ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дкритий урок «Подорож до 7 чудес світу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Інтелектуальна гра «ЩО?ДЕ?КОЛИ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орож математичним міс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Виставка пороб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1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нкар І.І. Москалець Р.М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дкритий урок 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онкурс-гра «Тангра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сідання орг. комітету, підведення підсумк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агородження переможців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стіннівок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" descr="G:\Фото\DSC02748.JPG"/>
          <p:cNvPicPr/>
          <p:nvPr/>
        </p:nvPicPr>
        <p:blipFill>
          <a:blip r:embed="rId1"/>
          <a:stretch/>
        </p:blipFill>
        <p:spPr>
          <a:xfrm>
            <a:off x="0" y="606600"/>
            <a:ext cx="4405320" cy="29415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5" descr="G:\Фото\DSC02750.JPG"/>
          <p:cNvPicPr/>
          <p:nvPr/>
        </p:nvPicPr>
        <p:blipFill>
          <a:blip r:embed="rId2"/>
          <a:stretch/>
        </p:blipFill>
        <p:spPr>
          <a:xfrm>
            <a:off x="5137200" y="765000"/>
            <a:ext cx="3867120" cy="46850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6" descr="G:\Фото\DSC02753.JPG"/>
          <p:cNvPicPr/>
          <p:nvPr/>
        </p:nvPicPr>
        <p:blipFill>
          <a:blip r:embed="rId3"/>
          <a:stretch/>
        </p:blipFill>
        <p:spPr>
          <a:xfrm>
            <a:off x="539640" y="3548160"/>
            <a:ext cx="4592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2" descr="G:\Фото\DSC02754.JPG"/>
          <p:cNvPicPr/>
          <p:nvPr/>
        </p:nvPicPr>
        <p:blipFill>
          <a:blip r:embed="rId1"/>
          <a:stretch/>
        </p:blipFill>
        <p:spPr>
          <a:xfrm>
            <a:off x="17640" y="3340080"/>
            <a:ext cx="4971960" cy="353232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3" descr="G:\Фото\DSC02755.JPG"/>
          <p:cNvPicPr/>
          <p:nvPr/>
        </p:nvPicPr>
        <p:blipFill>
          <a:blip r:embed="rId2"/>
          <a:stretch/>
        </p:blipFill>
        <p:spPr>
          <a:xfrm>
            <a:off x="5219640" y="728640"/>
            <a:ext cx="3727440" cy="49687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4" descr="G:\Фото\DSC02756.JPG"/>
          <p:cNvPicPr/>
          <p:nvPr/>
        </p:nvPicPr>
        <p:blipFill>
          <a:blip r:embed="rId3"/>
          <a:stretch/>
        </p:blipFill>
        <p:spPr>
          <a:xfrm>
            <a:off x="0" y="0"/>
            <a:ext cx="49896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G:\Фото\DSC026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дкриття тижня математики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ний брейн - рин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697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тематична гра «Розумники та розумниці» (5-А клас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uk-UA" sz="4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898989"/>
                </a:solidFill>
                <a:latin typeface="Goudy Stout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Picture 4" descr="floppybuddy"/>
          <p:cNvPicPr/>
          <p:nvPr/>
        </p:nvPicPr>
        <p:blipFill>
          <a:blip r:embed="rId1"/>
          <a:stretch/>
        </p:blipFill>
        <p:spPr>
          <a:xfrm>
            <a:off x="6705720" y="502920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1168" name="WordArt 6"/>
          <p:cNvSpPr txBox="1"/>
          <p:nvPr/>
        </p:nvSpPr>
        <p:spPr>
          <a:xfrm>
            <a:off x="1219320" y="2994120"/>
            <a:ext cx="6553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якую за уваг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39:41Z</dcterms:created>
  <dc:creator/>
  <dc:description/>
  <dc:language>en-US</dc:language>
  <cp:lastModifiedBy>Игорь</cp:lastModifiedBy>
  <dcterms:modified xsi:type="dcterms:W3CDTF">2013-11-10T16:42:24Z</dcterms:modified>
  <cp:revision>14</cp:revision>
  <dc:subject/>
  <dc:title>Слайд 1</dc:title>
</cp:coreProperties>
</file>