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gif" ContentType="image/gif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dt" idx="8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ftr" idx="8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 type="sldNum" idx="8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CADC-2676-492F-A751-05F825DD88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FFB9-AE67-4030-8900-C752FEFA16A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33240"/>
                <a:tab algn="l" pos="1268280"/>
                <a:tab algn="l" pos="1903320"/>
                <a:tab algn="l" pos="2538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AF82-966C-4384-B2A8-965850A0093E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F7C-05C2-4667-A808-982DFF8D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FBDB-7797-4E6F-AA28-A4376DF7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2D85F-9938-4A8C-934E-2236ED8EB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BBBF4-8E1D-41E7-87EB-519DB73E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E6CEF-5080-4178-8FE7-20A8494C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15DF8-09E4-4940-8B30-667A8D10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253919-7E1D-412D-B908-1F69209D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62042-974B-471C-94B0-E855F495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381CDB-26B2-44E2-BDC0-C60BD10F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44EF7-5545-42A0-B87B-4003C545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BA819-0B89-4A2A-8027-45C152F8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50172-807D-4A30-94CD-9B92032B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38BD-08C4-4657-9FAF-EFBBBADF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6E6E4-132F-44F7-9530-B164C841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3B7BD-7F94-4122-B0E0-12BAD5EE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6CBEF1-7854-451B-B907-61F31D6C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851E9-290B-432A-B33D-A142F119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743C0-3F7C-4F34-97F4-EAC53CA6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BDFE6-639A-484E-A9BA-45927F28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F58B2-4190-4D06-B708-45C933CB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4077F-8B79-43BE-8395-104ECEF9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E9322-B722-4E3A-8D63-59188BEE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0B334-8312-4745-894E-DA4B4127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55E-3D25-4765-AB59-D1F2570EF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CA65C-7176-4D41-9FA0-9E1C806B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32D9A-3665-4A82-B879-843843A7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1E80C-82FC-4A3C-8FEA-CF0B826F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686B3-F75B-4D6F-8E29-CFBEC410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D7701-21B4-45C0-91B4-CCB9AC1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D07B0-97FB-4B58-ACD1-26D1D20D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49F26-D8F2-4F7B-8E5A-138D8015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20537-3E95-4F26-99A0-A5E26BD9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93917-7444-4416-9185-3EA9E424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151A6-1F2A-4CE1-A9B1-222CE37D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735A-7A9D-4F21-AE5A-3338B9E9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F8DD2-811F-44E4-A72D-93D9A5D8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28EE8-B478-4C27-90E6-68BE611F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41455-1441-43C6-93D2-3AE921F6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7AA8C-1CB1-44A6-9DEA-FA283D49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E1CDC-40B8-4772-9B33-5AD6D8B5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0FFFC-214A-411D-8BE4-E11C0725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24366-F3CA-44B4-A30F-863E68BA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63077-B207-4AC3-948D-3E014C6C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17391-5CD1-49EC-9401-DBFCDDC8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14BCC-DF18-4594-B284-BB03A71F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EB8A-3BFB-4446-9136-807CACEA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B1458-9F5D-4314-9D70-DF10BC13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BAE5A-2BBC-4DB8-8C2C-C6B56C93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E33F2-8B9E-42E0-9620-A39D8B8A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DF244-6C54-42EC-8206-119B12D4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35121-E5DB-4BF6-BEEC-C867B43E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708D2-0748-4AD0-BCA0-41CA9E8EC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0DAFF-CD15-4C34-84E3-AD6732FA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3241D-E97A-4243-948B-70558E9A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41289-50C5-4DD4-A9BD-C1804E6A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A89F1-A37B-472C-9255-6CEA7B41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311D-D8DA-477D-8634-7B7407DC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7F504-86B6-4D9E-BEE0-45772C6A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18B21-5937-477C-85FB-4070E072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76D0D-0D75-4E8B-968A-72EA5475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87947-D87E-4FAC-BE93-9A0A686D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D1FBE-61B0-4208-B842-B77A5812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739EC-C4B8-4F4D-AF46-507D5C00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81E3D0-E260-49B1-8EEA-B01E60CE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65C92-4E68-4962-8ED2-106384CA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32524-0FEC-4FE4-A8B0-53BA1BAD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9C57C-B9C4-4260-A2AF-F1E26EC1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42E9-8FF9-4DD2-8513-A02E4533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A7EEF-1AE9-4CA2-9F76-A11E3FD5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A031A-EA2A-488D-A606-DC7310E3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67B91-DA72-4AA0-A41B-5D48C4EB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CC052-0348-4B59-88A3-22DADDAD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E4BBA-0129-4A28-80E0-4BC8F4A6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A229B9-C07A-44B8-BFC9-79BB07A8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47627-67B7-406F-A995-1CE8B88E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D2412-2283-4E54-9D3F-667B5170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C3BDA-139A-4F87-B5DE-281FB58D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02E515-D072-4F17-BAB4-0FF15FCC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A09-2781-4CB7-B765-F9D18D93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CD2DC-FFF7-4554-B9FD-D618EB3C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1A6BB-91C8-4902-9B48-D9D0354B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750001-DE80-4996-A912-9E6564A0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04B1E3-92BF-4FA3-8892-4A06EC6B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4AEB0-1923-4384-928D-CB4EFACA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16A50-7400-4071-979A-17874AE5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ED8B7-2081-4648-86F1-271A6E3A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AAC90-A136-4AC6-AB71-7C3250FC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9803F-6030-4998-84F5-33CF0180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0A8AE-BC1F-43C9-854B-BA5748E3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1FE6-6D56-418B-96F7-5BDF1377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390F31-C4B0-4478-B4B0-96BAEC5A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D8DABE-061F-4BD5-A033-15FA062A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A9044-B20A-4440-B11A-F5E784074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368BC-789F-4427-AD11-E8F188A4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52528-43BD-49EB-83F9-97255F71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2D573-1708-4B1D-A81F-9FF6B189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451CC-0CE5-4F39-B47C-4E9F3B5F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035D5-50FC-4810-BC9C-E88904A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0A6CAD-7D08-4DF8-B21B-9F4D972F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1166C-1C3C-4C8E-A89E-916C731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08B2-9941-4760-AB53-F5857E47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3E552-861F-47D0-BB57-10C9CFFF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2E947-2BD4-43D5-9D1E-CA7FBDB3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184F3-770C-46D9-81BD-D5408BDE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F26489-AB6A-4085-959B-A6700180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285D4B-E2FA-4CE1-9560-23F55541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510EE-60FD-4629-891F-42BE4E0E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6B438-C47F-42B4-9C61-B6E95EF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53CA4-A018-4CD4-953F-457AA120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82A03F-A23B-4CC0-81CB-A930A3DD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CD47D6-5799-4833-A937-70F7177A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1E6-BFE8-4814-831C-BEA6AC57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DCCE-55AD-4D6B-92A0-27130AA2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B20C7-AC99-44EE-97FE-D78BB63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78F66-AFBE-4C25-BB43-AD3481BB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66B68E-A772-4B14-8CD9-EFA3E123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26BFC6-5F21-420C-9B08-48A8209A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135B3-1B46-42C7-BDB4-C277C978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D38676-8A34-4997-8496-4E75F01E6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CB81F2-D15D-4F56-A52B-F5C079FD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62266-8EFC-48D2-903F-BA6B7FAE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635CE-C0F5-4A65-8AD6-EFE7FEA5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012F7-7BD7-49BF-B5B1-0BC6220A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BF26-C9A6-409A-9916-CDE46495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59A39-DFB2-468C-91A9-970761A1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5634B-46A3-444B-8569-870A5E7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11B39-BD67-4C0D-9731-2F45160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1099F-9721-4F4E-BF2A-52EB40B5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DF065B-02BE-49F1-94C3-D28ED196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92DFD-DCBB-4452-9F14-7C3C9A85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971F15-EAA4-4308-9AA1-F752DE9D0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AC40D-0B4C-4C71-826C-0C7D3856B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37153-0728-435B-BB0C-AA3F6BF7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3D043-3F78-43F2-911A-20AE4DE3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1B18-ECAC-4A88-A2A3-CCE9BBDA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1E89F-3A78-471E-AFED-E548D6BB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9F59E-4E75-4F9E-BAB6-5A2A1847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AB1F18-837C-4310-A081-0BB06419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22161-C4C3-4148-B1A8-E1EBFAA8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92DE36-0751-4FCB-B0BF-49179DAD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4E2CC-DFDD-4028-85B4-2E304093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36FE0F-B801-4733-91E5-90C054B2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3FD03-15C1-4C19-AF44-5C8E8C9E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FAA92-AAAD-4CE2-B563-C1057302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CB1325-FDF0-40B9-9758-94B38127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65CF-46BC-4A67-8BC4-1ED43138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5EEBD1-8EB1-4CD8-AAB9-7F05ECE8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940F97-A20A-4346-9F24-D6FBFDA9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12C768-B8B2-4324-A37C-3AD06219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8E58AC-D9EA-42C5-A043-DD1FDFDC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D72993-E1CD-47CD-B957-57B302F2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04E940-A80F-4B74-B6DF-1826B773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1F1C1-4E04-498A-8DC4-78297303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D13EC9-1993-48FB-A88F-39014CBA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9C6AE9-95AF-45EC-9E18-87D19DA5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CD94A-3FE9-4747-B0C7-507C4B1C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8726-629F-484F-AF94-316FF1AA9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EDF7C-EA1C-411A-AC63-B5F2FA14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826D60-2C00-460C-954C-0F7E0E71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93026A-FBF0-48CD-A81A-36947A7D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24381-A449-447E-87A3-F64345FD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4902F2-2043-4CB7-9B78-668B1D80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AA333D-2C97-483F-9FDD-D52AD644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B59206-352E-434A-9BBC-DA67BB19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E01D4-3597-4F2A-B3EE-4A3AA79A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B7A8A-AB7E-4B9D-B231-7B15693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856644-33D5-42B2-B0DE-96372058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FBED6-1451-4334-81B9-9A37644D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9713D3-0E39-49E7-87F4-23F9E394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1A20C-4A5F-4684-8D14-4F9C2052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F00D6E-BD48-4283-A5E6-AFD9AD39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FD959D-2456-40B3-B220-6DC873A1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6454CD-11A4-4C86-98AB-A6075308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100E85-60C1-4219-88BA-9DB6F856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8880A8-710E-40C8-9448-A1EB062A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7E96BB-1BEA-4318-A5BE-CF2D0FB9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D9E5F7-8D04-4D4F-AB94-B8D97D4D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AD696C-03B3-4B1F-AA8B-08DB2B03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490E-6D57-4D78-97DB-FE7FA4AB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FD724B-B150-4120-BD46-5E2BD380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0C8A44-6752-4719-9D84-ACFF6CF2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A14212-C255-4291-9616-E8BD3F75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8843D2-7285-4428-8756-1E9C3DD7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616D14-D7F9-454B-A476-B1510111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1D0359-B2EE-41B0-85F5-5792C202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04B01F-96FF-4996-B022-88A32C4F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0A36E7-0CEB-4861-A9C6-62AA274F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33849E-F188-4B22-9DA2-A8456245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9FBD31-66AA-4731-B6E9-9B7EDEB0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083EC-0B44-4F74-BFEC-9EC74E52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BFAD52-D95B-4EC7-A625-59B28C63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D8BC2A-915A-48BB-AD6E-AFF74F4F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667082-2D22-4324-92A3-DE86398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776492-4906-42F8-86C0-79E4D1EE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76DBAA-2D62-47CA-8ADA-E368F4E2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82E260-2ED9-43FD-982D-AD508E03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90C976-6574-4394-A6CA-C0A24110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C5F6DE-DF51-4B75-A522-1404E36E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0D8A04-0892-4835-951B-BA94C05F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E11C83-2A02-4C13-881B-9E642C89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A310A-4DBE-4BAB-88C0-72C67D44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42A17A-D050-463F-B179-0CDF8F2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550679-9F5C-4A24-97E3-F64F7E34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796EAF-2D06-41F5-9023-592759EE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2FDC32-BF4F-4400-A1B2-C44CC6A3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765304-A0F4-43E6-8E58-3C6F6445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634EE2-8A96-431B-B963-54262DF9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B3A583-C30B-4CC4-B94C-D326A994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9071B-D00E-43A5-9CE0-13BD3AF3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3BD0BC-D825-4416-A70C-3E4E528E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9C03B1-77A4-4491-89C8-CD5577EB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173C-F2A8-4944-BFB8-2AEE0224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73B003-470C-45B7-B9C3-2608C507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DF9703-412C-4139-A82C-DBEB800B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FF1A8E-B0E4-4DA8-BF49-05328CA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38270A-156C-4F7F-B861-0A419878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B0DF59-FE30-4430-9231-C2A3B4F2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6159E5-013E-44EA-9D95-75B283F8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E17BBD-5CC4-46C6-837C-14792DB9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672E9D-D5CD-4AAC-8C53-840AC79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5F82E8-0CFD-4829-9EFD-4C6555B5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B916B4-0CC4-4D40-8984-FC6FCA37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022-4C9A-4BBD-9749-28C2386B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BD0D-8C21-4E08-A21B-2EAF3B130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B1D705-9EE8-40DB-B4E3-C323A08E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E01847-283C-4FCA-B33E-68177D75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A3751D-CC91-4D8B-8426-116565EB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545AFC-5A78-41C1-A3A6-538437FE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54305C-44AD-4C05-87A0-DD05BB5B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A7FE64-455C-4248-9B7B-DABB9807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E3853C-F884-4888-AD37-941BB85D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EEFE37-518B-4F12-A045-55F18782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C88E0D-A014-4D13-A4F4-0C4EB54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23B71A-C224-46E9-9608-6A81926B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1D291-56BB-4C53-AAE4-5167992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E78A78-9C9D-42CF-944E-489917A6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9B130A-1AD1-470B-8628-DDD67D1B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7EB7A4-47A3-4EA5-8CC6-1F5A54AF0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E42A2E-0651-4C13-B2B7-F193CACB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A576FE-4AA8-4CBD-A3CD-7AED6E41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2D2D32-A08D-4A45-AAAD-820935FE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8B1529-DC9F-405D-B950-06285DEC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8D6A2E-9443-4C8E-B6A3-0395F114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3B6397-0E41-481D-A7C1-19857629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644324-C064-4B01-8FFA-F261CF04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E02C0-61E4-4DF4-AADB-F6973522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7CC6C8-DE03-4119-B33B-5EF5389E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988AAE-A813-4B27-B7CC-61B4B176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6DE314-F2AB-459C-9029-8F09B3BC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DF8D2D-631E-431C-9047-B1323270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D3C3E1-7C52-49C9-86ED-198747C1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C7C1-3F20-4E01-B055-AA92D04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CCB55-EDA2-4C25-9BA6-BDE7362C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036B-1601-4D5D-8131-B199573C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FE2A1-FF70-45CE-9B68-EC70106B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DB42E-5249-4AFB-B11A-A090DC41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9C9A-5FB9-4951-AD95-F56C289C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378E-D144-483F-B8EF-C7EEF9B0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A78B-F92B-4670-858C-3171887C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331F3-001E-4639-8559-27E0F9D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DCCB-C1D3-499B-B245-89796DD4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7D6F-1C5B-4929-8EC5-F4752E10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F4182-4D6D-4066-9D29-662C94F2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F9DBF-4E99-420F-9ADD-7F1C2626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0EAF-CB0E-42FE-8C13-4FA35CD1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4141-0690-4364-BBCF-E530D9EA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83F02-7B45-4CAF-8986-CF7029A2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693EB-1EDD-4B9E-B32E-68466BEC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96594-4CC1-458A-B05C-1F983116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81F-E9C3-445A-AFAD-726F65F1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7459-D04E-4187-9080-48206C9C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A4B95-869C-4F7B-BB1D-5002285A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F6548-CE64-4B3D-86EE-20F2B582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CD392-EC31-4815-8CBC-60BFBD92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6B135-5846-4661-805B-9C9D8C07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6155D-8AC0-4BC5-842C-87ADE9E0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541F6-626B-414C-912A-3A8F5BBA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FCF3D-AA71-4ED8-ADF5-646DED44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A28F6-4AC1-4491-A12E-C6FA16BC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D2280-EDDB-47CB-9AEE-90550D1A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C81-EE6A-4BBF-A058-80EA1014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B3559-D8CA-40F2-89F4-AEFC3D95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2310A-2400-495E-9485-10F2E740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88DC4-B18D-4F18-8A30-D280692E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8634A-5C15-4F68-8E8B-22E5D993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BB088-C664-49F0-AFDD-09029756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EDB3-5DDF-4BEB-A36D-E207C467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3832B-F936-4C3D-A281-48154C23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09FE8-D4B7-4F4A-BDD0-76349553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E3454-FC72-42B9-AD37-1BF6BD4B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45707-DA68-4168-9F32-FF31F91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247-6E99-4DC1-90A1-14F1E9CC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09DC58-596D-49A0-A681-55FFC4FC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300F0-D959-481D-AE2A-15C692BB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D72A4-7044-4BD8-9599-5BE381FA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12456-2C4A-4BB7-A54F-7968FF51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F58DC-7F21-4620-8464-30D690A7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1926-51A7-44B0-9A36-A6444A7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48BE5-C909-460C-B58A-78C1CE6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0EE61-D920-4BD5-AD9D-EB1C2FD9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F8214-0A0A-4DDD-BF03-F78ED107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4919C-C8F7-4E39-8AA7-BF3ADA0C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D13-7101-4EAE-BC14-B1A3F6A1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AEABC-2160-4E1B-B77E-4891DF7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CEB57-E7ED-4D9C-AC47-6A6D3856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8720F-E463-4F77-8A78-3AC2E47D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D86C0-CEA9-461D-AE27-637263679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110CC-991E-4400-A023-2045D325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08436-180A-4264-A130-492A4AFD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B1C5B-0274-482F-A1F3-DB4F7CC7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F872-CFA7-406E-A974-35903E47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07877-0D2D-4139-93C7-745FB091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D26A9-2525-4AAA-8BFE-D8478E01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E12-4D5F-4069-95F9-79974095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270D5-8AA4-436A-8BB2-E068E916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06237-5680-4284-BD33-DB37C0C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8F3F8-65DB-469A-A28B-89DB366C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35180-A6B4-43BD-901B-A001A95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884B1-9D2B-44DF-B73E-B095B104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8BEA3-CFE3-439B-B78D-0D2CAB8F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3E963-F887-4FFB-A0A5-8A04C5E9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BEA8E-B850-4539-9FF1-6E1DAC50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B21DC-0138-46D4-A7D3-DD078923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4E90F-6DF2-4719-ABEE-DD585EFB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hyperlink" Target="http://www.sabak.adamzat.kz/" TargetMode="Externa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d576e476271.png"/>
          <p:cNvPicPr/>
          <p:nvPr/>
        </p:nvPicPr>
        <p:blipFill>
          <a:blip r:embed="rId3"/>
          <a:srcRect l="65646" t="35419" r="6195" b="33335"/>
          <a:stretch/>
        </p:blipFill>
        <p:spPr>
          <a:xfrm>
            <a:off x="6858000" y="4500720"/>
            <a:ext cx="1928880" cy="2143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CA78-7287-44A6-8008-105FFF3B1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1CE2-FF29-4F77-B4DD-27331544D32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A917-A403-4D30-90F9-238A57615E3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56BC-6CFE-4B60-81A7-ED44DCFD781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D9F0-DEAC-4665-B501-0E91B853199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0202-5CD8-4991-843C-0005F4B3B80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4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FDB9-7961-458D-A978-7C457E8AFE5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7568-7868-4420-9F2C-F111482E68B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8" descr="Рисунок1"/>
          <p:cNvPicPr/>
          <p:nvPr/>
        </p:nvPicPr>
        <p:blipFill>
          <a:blip r:embed="rId2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Рисунок4"/>
          <p:cNvPicPr/>
          <p:nvPr/>
        </p:nvPicPr>
        <p:blipFill>
          <a:blip r:embed="rId3"/>
          <a:stretch/>
        </p:blipFill>
        <p:spPr>
          <a:xfrm>
            <a:off x="7693200" y="5572080"/>
            <a:ext cx="1450800" cy="128592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7322-12F9-451E-AD40-72D8A63F07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F1E9-04D6-4B23-B556-92ECB0AFD7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6E1C-3EA3-4A28-B227-53704B3746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  <a:tab algn="l" pos="8534520"/>
                <a:tab algn="l" pos="8940960"/>
                <a:tab algn="l" pos="9347040"/>
                <a:tab algn="l" pos="9753480"/>
              </a:tabLst>
            </a:pPr>
            <a:fld id="{BDADE52D-51FA-4B8C-81B5-01938E308B1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793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7B63-AC58-4C81-A46F-F3ED323162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A1D6-7E98-484C-9527-D94E31ACED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879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6BE3-04AD-420E-99A0-C906B23F86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922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42D7-CBB8-4383-891D-96A8D31F30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F218-DB6A-436A-A103-F0E175A794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1008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C181-2475-49FF-82C0-1C10868C73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1051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F25F-4E79-469F-AC0B-70AC92439B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1094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00" spc="-1" strike="noStrike">
                <a:solidFill>
                  <a:srgbClr val="333399"/>
                </a:solidFill>
                <a:latin typeface="Arial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1587-359A-4403-A4A6-4C736FEF77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Рисунок3"/>
          <p:cNvPicPr/>
          <p:nvPr/>
        </p:nvPicPr>
        <p:blipFill>
          <a:blip r:embed="rId2"/>
          <a:stretch/>
        </p:blipFill>
        <p:spPr>
          <a:xfrm>
            <a:off x="8028000" y="6018120"/>
            <a:ext cx="1116000" cy="839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3217-11AC-4252-AF2E-85EECE1D0E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588000" y="6541920"/>
            <a:ext cx="1295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шық сабақта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7" descr="0d18c7b4a0b2.png"/>
          <p:cNvPicPr/>
          <p:nvPr/>
        </p:nvPicPr>
        <p:blipFill>
          <a:blip r:embed="rId3"/>
          <a:stretch/>
        </p:blipFill>
        <p:spPr>
          <a:xfrm>
            <a:off x="285840" y="285840"/>
            <a:ext cx="8858160" cy="6286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E1DC-94F8-421F-8746-421769544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6" descr="1d576e476271.png"/>
          <p:cNvPicPr/>
          <p:nvPr/>
        </p:nvPicPr>
        <p:blipFill>
          <a:blip r:embed="rId3"/>
          <a:srcRect l="65646" t="35419" r="6195" b="33335"/>
          <a:stretch/>
        </p:blipFill>
        <p:spPr>
          <a:xfrm>
            <a:off x="6858000" y="4500720"/>
            <a:ext cx="1928880" cy="21430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1da7fa4767f7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2732-745A-4337-8ABC-CF74053BB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0788-D078-4520-91EC-D75FDBE2A78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06E3-EC14-48F3-A56D-38742BDCED5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6EB3-202F-484B-B152-4D01B9EB513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55560"/>
                <a:tab algn="l" pos="131292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C8F0-BC21-4AFF-81EE-5E0AA8D3FCE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104292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ХСШ №1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WordArt 4"/>
          <p:cNvSpPr txBox="1"/>
          <p:nvPr/>
        </p:nvSpPr>
        <p:spPr>
          <a:xfrm>
            <a:off x="755640" y="1844640"/>
            <a:ext cx="7272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4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иждень математи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5" name="Подзаголовок 2"/>
          <p:cNvSpPr/>
          <p:nvPr/>
        </p:nvSpPr>
        <p:spPr>
          <a:xfrm>
            <a:off x="1484280" y="8445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1.02.2013 – 15.02.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Подзаголовок 2"/>
          <p:cNvSpPr/>
          <p:nvPr/>
        </p:nvSpPr>
        <p:spPr>
          <a:xfrm>
            <a:off x="1332000" y="4365720"/>
            <a:ext cx="611172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9600" indent="-309600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uk-UA" sz="2900" spc="-1" strike="noStrike" u="sng">
                <a:solidFill>
                  <a:srgbClr val="ff0000"/>
                </a:solidFill>
                <a:uFillTx/>
                <a:latin typeface="Arial"/>
                <a:ea typeface="MS Gothic"/>
              </a:rPr>
              <a:t>Організатор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uk-UA" sz="2900" spc="-1" strike="noStrike">
                <a:solidFill>
                  <a:srgbClr val="ff0000"/>
                </a:solidFill>
                <a:latin typeface="Arial"/>
                <a:ea typeface="MS Gothic"/>
              </a:rPr>
              <a:t>Вчителі математики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uk-UA" sz="2900" spc="-1" strike="noStrike">
                <a:solidFill>
                  <a:srgbClr val="ff0000"/>
                </a:solidFill>
                <a:latin typeface="Arial"/>
                <a:ea typeface="MS Gothic"/>
              </a:rPr>
              <a:t>Москалець Р.М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uk-UA" sz="2900" spc="-1" strike="noStrike">
                <a:solidFill>
                  <a:srgbClr val="ff0000"/>
                </a:solidFill>
                <a:latin typeface="Arial"/>
                <a:ea typeface="MS Gothic"/>
              </a:rPr>
              <a:t>Чигринова Ю.Є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Прямоугольник 1"/>
          <p:cNvSpPr/>
          <p:nvPr/>
        </p:nvSpPr>
        <p:spPr>
          <a:xfrm>
            <a:off x="2236680" y="2556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ня заходів тижня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9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 і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8" name=""/>
          <p:cNvGraphicFramePr/>
          <p:nvPr/>
        </p:nvGraphicFramePr>
        <p:xfrm>
          <a:off x="395280" y="1268280"/>
          <a:ext cx="5905440" cy="5275440"/>
        </p:xfrm>
        <a:graphic>
          <a:graphicData uri="http://schemas.openxmlformats.org/drawingml/2006/table">
            <a:tbl>
              <a:tblPr/>
              <a:tblGrid>
                <a:gridCol w="504720"/>
                <a:gridCol w="3456000"/>
                <a:gridCol w="552600"/>
                <a:gridCol w="1392120"/>
              </a:tblGrid>
              <a:tr h="4222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і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повідальн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Оформлення кабінетів за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Засідання орг..коміте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онкурс стіннів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укціон зна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1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алець Р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ідкриття тижня математ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атематичний брейн - рин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Математична гра «Розумники та розумниці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онкурс малюнків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алець Р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Конкурс презентація «Моя улюблена школ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Математтиичний КВ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дорож до країни «Математи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онкурс на кращий математичний тві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ута Л.Ф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менкоВ.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ідкритий урок «Подорож до 7 чудес світу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Інтелектуальна гра «ЩО?ДЕ?КОЛИ?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одорож математичним міс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Виставка поробо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11 к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 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алець Р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нкар І.І. Москалець Р.М.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Відкритий урок 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онкурс-гра «Тангра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Засідання орг. комітету, підведення підсумк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Нагородження переможців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гриноваЮ.Є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алець Р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75564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курс стіннівок</a:t>
            </a:r>
            <a:br>
              <a:rPr sz="40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1" name="Picture 4" descr="G:\Фото\DSC02748.JPG"/>
          <p:cNvPicPr/>
          <p:nvPr/>
        </p:nvPicPr>
        <p:blipFill>
          <a:blip r:embed="rId1"/>
          <a:stretch/>
        </p:blipFill>
        <p:spPr>
          <a:xfrm>
            <a:off x="0" y="606600"/>
            <a:ext cx="4405320" cy="29415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5" descr="G:\Фото\DSC02750.JPG"/>
          <p:cNvPicPr/>
          <p:nvPr/>
        </p:nvPicPr>
        <p:blipFill>
          <a:blip r:embed="rId2"/>
          <a:stretch/>
        </p:blipFill>
        <p:spPr>
          <a:xfrm>
            <a:off x="5137200" y="765000"/>
            <a:ext cx="3867120" cy="468504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6" descr="G:\Фото\DSC02753.JPG"/>
          <p:cNvPicPr/>
          <p:nvPr/>
        </p:nvPicPr>
        <p:blipFill>
          <a:blip r:embed="rId3"/>
          <a:stretch/>
        </p:blipFill>
        <p:spPr>
          <a:xfrm>
            <a:off x="539640" y="3548160"/>
            <a:ext cx="45928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Picture 2" descr="G:\Фото\DSC02754.JPG"/>
          <p:cNvPicPr/>
          <p:nvPr/>
        </p:nvPicPr>
        <p:blipFill>
          <a:blip r:embed="rId1"/>
          <a:stretch/>
        </p:blipFill>
        <p:spPr>
          <a:xfrm>
            <a:off x="17640" y="3340080"/>
            <a:ext cx="4971960" cy="353232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3" descr="G:\Фото\DSC02755.JPG"/>
          <p:cNvPicPr/>
          <p:nvPr/>
        </p:nvPicPr>
        <p:blipFill>
          <a:blip r:embed="rId2"/>
          <a:stretch/>
        </p:blipFill>
        <p:spPr>
          <a:xfrm>
            <a:off x="5219640" y="728640"/>
            <a:ext cx="3727440" cy="496872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4" descr="G:\Фото\DSC02756.JPG"/>
          <p:cNvPicPr/>
          <p:nvPr/>
        </p:nvPicPr>
        <p:blipFill>
          <a:blip r:embed="rId3"/>
          <a:stretch/>
        </p:blipFill>
        <p:spPr>
          <a:xfrm>
            <a:off x="0" y="0"/>
            <a:ext cx="49896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4" descr="G:\Фото\DSC026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ідкриття тижня математики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чний брейн - ринг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2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7697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атематична гра «Розумники та розумниці» (5-А клас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uk-UA" sz="4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898989"/>
                </a:solidFill>
                <a:latin typeface="Goudy Stout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7" name="Picture 4" descr="floppybuddy"/>
          <p:cNvPicPr/>
          <p:nvPr/>
        </p:nvPicPr>
        <p:blipFill>
          <a:blip r:embed="rId1"/>
          <a:stretch/>
        </p:blipFill>
        <p:spPr>
          <a:xfrm>
            <a:off x="6705720" y="5029200"/>
            <a:ext cx="1523880" cy="1333440"/>
          </a:xfrm>
          <a:prstGeom prst="rect">
            <a:avLst/>
          </a:prstGeom>
          <a:ln w="0">
            <a:noFill/>
          </a:ln>
        </p:spPr>
      </p:pic>
      <p:sp>
        <p:nvSpPr>
          <p:cNvPr id="1168" name="WordArt 6"/>
          <p:cNvSpPr txBox="1"/>
          <p:nvPr/>
        </p:nvSpPr>
        <p:spPr>
          <a:xfrm>
            <a:off x="1219320" y="2994120"/>
            <a:ext cx="6553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якую за увагу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30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4:39:41Z</dcterms:created>
  <dc:creator/>
  <dc:description/>
  <dc:language>en-US</dc:language>
  <cp:lastModifiedBy>Игорь</cp:lastModifiedBy>
  <dcterms:modified xsi:type="dcterms:W3CDTF">2013-11-10T16:42:24Z</dcterms:modified>
  <cp:revision>14</cp:revision>
  <dc:subject/>
  <dc:title>Слайд 1</dc:title>
</cp:coreProperties>
</file>